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7A4-FB64-4105-ACC8-BB5E7407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0A9-0B69-4943-8158-116DBC6B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CB3-8618-4799-A7D4-35E3A64C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EAF-9B07-4BD8-850B-A27C3EDE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FBB-E059-4CDD-8E70-189330D4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F7F-C9C2-4641-B9CD-31E2D589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64C-CA61-4B0E-9624-020EE68D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CD2-8A17-4928-A4C4-D51F9628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513-78E4-4445-A4C8-4A38365D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E28-33F2-4E63-B2AE-2082A00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3DD-AFE3-4D9A-AE95-CD8EF9DC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8DB-7137-40BA-BA27-8BE0FFAC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36CE-3AC6-4A7B-A8D2-F8534DDBF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kquisenb</cp:lastModifiedBy>
  <dcterms:modified xsi:type="dcterms:W3CDTF">2004-07-17T19:43:25Z</dcterms:modified>
  <cp:revision>17</cp:revision>
  <dc:subject/>
  <dc:title>No Slide Title</dc:title>
</cp:coreProperties>
</file>