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38.xml.rels" ContentType="application/vnd.openxmlformats-package.relationships+xml"/>
  <Override PartName="/ppt/slides/_rels/slide5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53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319A-97C0-47CE-8A58-60A9DBD4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EB8A-3772-46CC-A331-0301E103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BF38-6D7A-4CFF-B729-ABE69A9E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A0D-20E5-4640-AD94-2AF11F8F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66E-F35D-454B-AAF0-7DD889A6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8366-3C21-4082-B031-E5175713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C394-C28B-4424-83F8-2ECDA2E7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7461-72E5-46E2-AAC5-29E1FDF9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3F7-CA76-4788-8F16-7EDAFF13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690-5BC5-41CD-B1FC-AD04A8E4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DAA9-C673-45A0-A3D9-8EEE5EA0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08AA-4D45-45FD-B2E4-64870E48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3E78-3239-456E-8781-A38E7BB4B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9.xml"/><Relationship Id="rId3" Type="http://schemas.openxmlformats.org/officeDocument/2006/relationships/slide" Target="slide81.xml"/><Relationship Id="rId4" Type="http://schemas.openxmlformats.org/officeDocument/2006/relationships/slide" Target="slide83.xml"/><Relationship Id="rId5" Type="http://schemas.openxmlformats.org/officeDocument/2006/relationships/slide" Target="slide85.xml"/><Relationship Id="rId6" Type="http://schemas.openxmlformats.org/officeDocument/2006/relationships/slide" Target="slide87.xml"/><Relationship Id="rId7" Type="http://schemas.openxmlformats.org/officeDocument/2006/relationships/slide" Target="slide89.xml"/><Relationship Id="rId8" Type="http://schemas.openxmlformats.org/officeDocument/2006/relationships/slide" Target="slide91.xml"/><Relationship Id="rId9" Type="http://schemas.openxmlformats.org/officeDocument/2006/relationships/slide" Target="slide93.xml"/><Relationship Id="rId10" Type="http://schemas.openxmlformats.org/officeDocument/2006/relationships/slide" Target="slide95.xml"/><Relationship Id="rId11" Type="http://schemas.openxmlformats.org/officeDocument/2006/relationships/slide" Target="slide97.xml"/><Relationship Id="rId1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slide70.xml"/><Relationship Id="rId3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5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8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1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4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Write the Final Question Her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rit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Final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27" name="">
            <a:hlinkClick r:id="rId3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280" y="586728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591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8340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072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408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647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5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8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1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4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srubin</cp:lastModifiedBy>
  <dcterms:modified xsi:type="dcterms:W3CDTF">2001-12-13T13:50:13Z</dcterms:modified>
  <cp:revision>42</cp:revision>
  <dc:subject/>
  <dc:title>No Slide Title</dc:title>
</cp:coreProperties>
</file>