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4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7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ct" ContentType="image/x-pi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B33A9-39EB-4EC4-BE3E-95FFC20FCC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Complete the Daily Double Sequence for Round One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on any blue area on the slide that is currently displayed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on  Slide Show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Action Sett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ction Settings Dialog Box will be displayed.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will see that the HYPERLINK is currently set to “Slide 8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 the HYPERLINK so that it is set to the slide number you made note of previous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OK until the Action Settings Dialog Box disappe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turn to Slide 8 and select View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lide Show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 your Daily Double button to make sure it works as you wish it t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und One should contain one “Daily Double” question.  To insert the “Daily Double Screen”, follow these step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 Select the desired button on this slide by clicking on 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on SLIDE SHOW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ACTION SETT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a note of which slide the HYPERLINK is currently set t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“Action Settings” dialogue box, change the HYPERLINK to “Daily Double Round 1”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 Now go to Slide “Daily Double Round 1”  in this presentation, and follow the directions in the “Notes” s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422F2-ECF8-4900-910F-B8A3075B5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3EBD8-4D02-4179-9DA7-FB2299ACE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FFBFA-AFB0-4D1E-A901-1B2DB2DCC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98749-6948-4DCC-941B-8F81E16A3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A5F28-F815-433F-A8B6-D3E4743B6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07E28-0D35-40BB-B995-07E6F52C4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0D943-7827-4870-BB6D-6C53932E6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69019-424F-463D-8E56-2FB8B4328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C7D8C-BD83-404F-8201-95F69E180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D62E6-4CEE-4FA8-A449-CCDAD80F6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E7B6D-FCBD-45E2-959B-548A694AE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E6EF8-84EF-4A5D-9C0A-2B72CF07F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825B7-CBE1-40E1-B4B8-AC44D0C487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ct"/><Relationship Id="rId3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9.xml"/><Relationship Id="rId3" Type="http://schemas.openxmlformats.org/officeDocument/2006/relationships/slide" Target="slide9.xml"/><Relationship Id="rId4" Type="http://schemas.openxmlformats.org/officeDocument/2006/relationships/slide" Target="slide11.xml"/><Relationship Id="rId5" Type="http://schemas.openxmlformats.org/officeDocument/2006/relationships/slide" Target="slide11.xml"/><Relationship Id="rId6" Type="http://schemas.openxmlformats.org/officeDocument/2006/relationships/slide" Target="slide13.xml"/><Relationship Id="rId7" Type="http://schemas.openxmlformats.org/officeDocument/2006/relationships/slide" Target="slide13.xml"/><Relationship Id="rId8" Type="http://schemas.openxmlformats.org/officeDocument/2006/relationships/slide" Target="slide15.xml"/><Relationship Id="rId9" Type="http://schemas.openxmlformats.org/officeDocument/2006/relationships/slide" Target="slide17.xml"/><Relationship Id="rId10" Type="http://schemas.openxmlformats.org/officeDocument/2006/relationships/slide" Target="slide17.xml"/><Relationship Id="rId11" Type="http://schemas.openxmlformats.org/officeDocument/2006/relationships/slide" Target="slide19.xml"/><Relationship Id="rId12" Type="http://schemas.openxmlformats.org/officeDocument/2006/relationships/slide" Target="slide19.xml"/><Relationship Id="rId13" Type="http://schemas.openxmlformats.org/officeDocument/2006/relationships/slide" Target="slide21.xml"/><Relationship Id="rId14" Type="http://schemas.openxmlformats.org/officeDocument/2006/relationships/slide" Target="slide21.xml"/><Relationship Id="rId15" Type="http://schemas.openxmlformats.org/officeDocument/2006/relationships/slide" Target="slide23.xml"/><Relationship Id="rId16" Type="http://schemas.openxmlformats.org/officeDocument/2006/relationships/slide" Target="slide23.xml"/><Relationship Id="rId17" Type="http://schemas.openxmlformats.org/officeDocument/2006/relationships/slide" Target="slide25.xml"/><Relationship Id="rId18" Type="http://schemas.openxmlformats.org/officeDocument/2006/relationships/slide" Target="slide25.xml"/><Relationship Id="rId19" Type="http://schemas.openxmlformats.org/officeDocument/2006/relationships/slide" Target="slide27.xml"/><Relationship Id="rId20" Type="http://schemas.openxmlformats.org/officeDocument/2006/relationships/slide" Target="slide29.xml"/><Relationship Id="rId21" Type="http://schemas.openxmlformats.org/officeDocument/2006/relationships/slide" Target="slide29.xml"/><Relationship Id="rId22" Type="http://schemas.openxmlformats.org/officeDocument/2006/relationships/slide" Target="slide31.xml"/><Relationship Id="rId23" Type="http://schemas.openxmlformats.org/officeDocument/2006/relationships/slide" Target="slide31.xml"/><Relationship Id="rId24" Type="http://schemas.openxmlformats.org/officeDocument/2006/relationships/slide" Target="slide33.xml"/><Relationship Id="rId25" Type="http://schemas.openxmlformats.org/officeDocument/2006/relationships/slide" Target="slide33.xml"/><Relationship Id="rId26" Type="http://schemas.openxmlformats.org/officeDocument/2006/relationships/slide" Target="slide35.xml"/><Relationship Id="rId27" Type="http://schemas.openxmlformats.org/officeDocument/2006/relationships/slide" Target="slide35.xml"/><Relationship Id="rId28" Type="http://schemas.openxmlformats.org/officeDocument/2006/relationships/slide" Target="slide37.xml"/><Relationship Id="rId29" Type="http://schemas.openxmlformats.org/officeDocument/2006/relationships/slide" Target="slide37.xml"/><Relationship Id="rId30" Type="http://schemas.openxmlformats.org/officeDocument/2006/relationships/slide" Target="slide39.xml"/><Relationship Id="rId31" Type="http://schemas.openxmlformats.org/officeDocument/2006/relationships/slide" Target="slide39.xml"/><Relationship Id="rId32" Type="http://schemas.openxmlformats.org/officeDocument/2006/relationships/slide" Target="slide41.xml"/><Relationship Id="rId33" Type="http://schemas.openxmlformats.org/officeDocument/2006/relationships/slide" Target="slide41.xml"/><Relationship Id="rId34" Type="http://schemas.openxmlformats.org/officeDocument/2006/relationships/slide" Target="slide43.xml"/><Relationship Id="rId35" Type="http://schemas.openxmlformats.org/officeDocument/2006/relationships/slide" Target="slide43.xml"/><Relationship Id="rId36" Type="http://schemas.openxmlformats.org/officeDocument/2006/relationships/slide" Target="slide45.xml"/><Relationship Id="rId37" Type="http://schemas.openxmlformats.org/officeDocument/2006/relationships/slide" Target="slide45.xml"/><Relationship Id="rId38" Type="http://schemas.openxmlformats.org/officeDocument/2006/relationships/slide" Target="slide47.xml"/><Relationship Id="rId39" Type="http://schemas.openxmlformats.org/officeDocument/2006/relationships/slide" Target="slide47.xml"/><Relationship Id="rId40" Type="http://schemas.openxmlformats.org/officeDocument/2006/relationships/slide" Target="slide49.xml"/><Relationship Id="rId41" Type="http://schemas.openxmlformats.org/officeDocument/2006/relationships/slide" Target="slide49.xml"/><Relationship Id="rId42" Type="http://schemas.openxmlformats.org/officeDocument/2006/relationships/slide" Target="slide51.xml"/><Relationship Id="rId43" Type="http://schemas.openxmlformats.org/officeDocument/2006/relationships/slide" Target="slide53.xml"/><Relationship Id="rId44" Type="http://schemas.openxmlformats.org/officeDocument/2006/relationships/slide" Target="slide53.xml"/><Relationship Id="rId45" Type="http://schemas.openxmlformats.org/officeDocument/2006/relationships/slide" Target="slide57.xml"/><Relationship Id="rId46" Type="http://schemas.openxmlformats.org/officeDocument/2006/relationships/slide" Target="slide59.xml"/><Relationship Id="rId47" Type="http://schemas.openxmlformats.org/officeDocument/2006/relationships/slide" Target="slide61.xml"/><Relationship Id="rId48" Type="http://schemas.openxmlformats.org/officeDocument/2006/relationships/slide" Target="slide61.xml"/><Relationship Id="rId49" Type="http://schemas.openxmlformats.org/officeDocument/2006/relationships/slide" Target="slide63.xml"/><Relationship Id="rId50" Type="http://schemas.openxmlformats.org/officeDocument/2006/relationships/slide" Target="slide65.xml"/><Relationship Id="rId51" Type="http://schemas.openxmlformats.org/officeDocument/2006/relationships/slide" Target="slide65.xml"/><Relationship Id="rId52" Type="http://schemas.openxmlformats.org/officeDocument/2006/relationships/slide" Target="slide67.xml"/><Relationship Id="rId53" Type="http://schemas.openxmlformats.org/officeDocument/2006/relationships/slideLayout" Target="../slideLayouts/slideLayout1.xml"/><Relationship Id="rId5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8991720" y="670572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8991720" y="670572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0" y="6781680"/>
            <a:ext cx="76320" cy="76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. Adjust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ize &amp; posi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s necessary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1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-1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>
            <a:hlinkClick r:id="rId2" action="ppaction://hlinksldjump"/>
          </p:cNvPr>
          <p:cNvSpPr/>
          <p:nvPr/>
        </p:nvSpPr>
        <p:spPr>
          <a:xfrm>
            <a:off x="0" y="304920"/>
            <a:ext cx="9144000" cy="6553080"/>
          </a:xfrm>
          <a:custGeom>
            <a:avLst/>
            <a:gdLst>
              <a:gd name="textAreaLeft" fmla="*/ 424440 w 9144000"/>
              <a:gd name="textAreaRight" fmla="*/ 8719560 w 9144000"/>
              <a:gd name="textAreaTop" fmla="*/ 424440 h 6553080"/>
              <a:gd name="textAreaBottom" fmla="*/ 6128640 h 6553080"/>
            </a:gdLst>
            <a:ahLst/>
            <a:rect l="textAreaLeft" t="textAreaTop" r="textAreaRight" b="textAreaBottom"/>
            <a:pathLst>
              <a:path w="30140" h="21600">
                <a:moveTo>
                  <a:pt x="0" y="0"/>
                </a:moveTo>
                <a:lnTo>
                  <a:pt x="30140" y="0"/>
                </a:lnTo>
                <a:lnTo>
                  <a:pt x="30140" y="21600"/>
                </a:lnTo>
                <a:lnTo>
                  <a:pt x="0" y="21600"/>
                </a:lnTo>
                <a:close/>
              </a:path>
              <a:path fill="lightenLess" w="30140" h="21600">
                <a:moveTo>
                  <a:pt x="0" y="0"/>
                </a:moveTo>
                <a:lnTo>
                  <a:pt x="30140" y="0"/>
                </a:lnTo>
                <a:lnTo>
                  <a:pt x="28740" y="1400"/>
                </a:lnTo>
                <a:lnTo>
                  <a:pt x="1400" y="1400"/>
                </a:lnTo>
                <a:close/>
              </a:path>
              <a:path fill="darken" w="30140" h="21600">
                <a:moveTo>
                  <a:pt x="30140" y="0"/>
                </a:moveTo>
                <a:lnTo>
                  <a:pt x="30140" y="21600"/>
                </a:lnTo>
                <a:lnTo>
                  <a:pt x="28740" y="20200"/>
                </a:lnTo>
                <a:lnTo>
                  <a:pt x="28740" y="1400"/>
                </a:lnTo>
                <a:close/>
              </a:path>
              <a:path fill="darkenLess" w="30140" h="21600">
                <a:moveTo>
                  <a:pt x="301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40" y="20200"/>
                </a:lnTo>
                <a:close/>
              </a:path>
              <a:path fill="lighten" w="301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. Adjust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ize &amp; posi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s necessary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2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-2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. Adjust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ize &amp; posi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s necessary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2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-2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>
            <a:hlinkClick r:id="rId2" action="ppaction://hlinksldjump"/>
          </p:cNvPr>
          <p:cNvSpPr/>
          <p:nvPr/>
        </p:nvSpPr>
        <p:spPr>
          <a:xfrm>
            <a:off x="0" y="304920"/>
            <a:ext cx="9144000" cy="6553080"/>
          </a:xfrm>
          <a:custGeom>
            <a:avLst/>
            <a:gdLst>
              <a:gd name="textAreaLeft" fmla="*/ 424440 w 9144000"/>
              <a:gd name="textAreaRight" fmla="*/ 8719560 w 9144000"/>
              <a:gd name="textAreaTop" fmla="*/ 424440 h 6553080"/>
              <a:gd name="textAreaBottom" fmla="*/ 6128640 h 6553080"/>
            </a:gdLst>
            <a:ahLst/>
            <a:rect l="textAreaLeft" t="textAreaTop" r="textAreaRight" b="textAreaBottom"/>
            <a:pathLst>
              <a:path w="30140" h="21600">
                <a:moveTo>
                  <a:pt x="0" y="0"/>
                </a:moveTo>
                <a:lnTo>
                  <a:pt x="30140" y="0"/>
                </a:lnTo>
                <a:lnTo>
                  <a:pt x="30140" y="21600"/>
                </a:lnTo>
                <a:lnTo>
                  <a:pt x="0" y="21600"/>
                </a:lnTo>
                <a:close/>
              </a:path>
              <a:path fill="lightenLess" w="30140" h="21600">
                <a:moveTo>
                  <a:pt x="0" y="0"/>
                </a:moveTo>
                <a:lnTo>
                  <a:pt x="30140" y="0"/>
                </a:lnTo>
                <a:lnTo>
                  <a:pt x="28740" y="1400"/>
                </a:lnTo>
                <a:lnTo>
                  <a:pt x="1400" y="1400"/>
                </a:lnTo>
                <a:close/>
              </a:path>
              <a:path fill="darken" w="30140" h="21600">
                <a:moveTo>
                  <a:pt x="30140" y="0"/>
                </a:moveTo>
                <a:lnTo>
                  <a:pt x="30140" y="21600"/>
                </a:lnTo>
                <a:lnTo>
                  <a:pt x="28740" y="20200"/>
                </a:lnTo>
                <a:lnTo>
                  <a:pt x="28740" y="1400"/>
                </a:lnTo>
                <a:close/>
              </a:path>
              <a:path fill="darkenLess" w="30140" h="21600">
                <a:moveTo>
                  <a:pt x="301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40" y="20200"/>
                </a:lnTo>
                <a:close/>
              </a:path>
              <a:path fill="lighten" w="301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. Adjust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ize &amp; posi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s necessary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3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-3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. Adjust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ize &amp; posi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s necessary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3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-3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>
            <a:hlinkClick r:id="rId2" action="ppaction://hlinksldjump"/>
          </p:cNvPr>
          <p:cNvSpPr/>
          <p:nvPr/>
        </p:nvSpPr>
        <p:spPr>
          <a:xfrm>
            <a:off x="0" y="304920"/>
            <a:ext cx="9144000" cy="6553080"/>
          </a:xfrm>
          <a:custGeom>
            <a:avLst/>
            <a:gdLst>
              <a:gd name="textAreaLeft" fmla="*/ 424440 w 9144000"/>
              <a:gd name="textAreaRight" fmla="*/ 8719560 w 9144000"/>
              <a:gd name="textAreaTop" fmla="*/ 424440 h 6553080"/>
              <a:gd name="textAreaBottom" fmla="*/ 6128640 h 6553080"/>
            </a:gdLst>
            <a:ahLst/>
            <a:rect l="textAreaLeft" t="textAreaTop" r="textAreaRight" b="textAreaBottom"/>
            <a:pathLst>
              <a:path w="30140" h="21600">
                <a:moveTo>
                  <a:pt x="0" y="0"/>
                </a:moveTo>
                <a:lnTo>
                  <a:pt x="30140" y="0"/>
                </a:lnTo>
                <a:lnTo>
                  <a:pt x="30140" y="21600"/>
                </a:lnTo>
                <a:lnTo>
                  <a:pt x="0" y="21600"/>
                </a:lnTo>
                <a:close/>
              </a:path>
              <a:path fill="lightenLess" w="30140" h="21600">
                <a:moveTo>
                  <a:pt x="0" y="0"/>
                </a:moveTo>
                <a:lnTo>
                  <a:pt x="30140" y="0"/>
                </a:lnTo>
                <a:lnTo>
                  <a:pt x="28740" y="1400"/>
                </a:lnTo>
                <a:lnTo>
                  <a:pt x="1400" y="1400"/>
                </a:lnTo>
                <a:close/>
              </a:path>
              <a:path fill="darken" w="30140" h="21600">
                <a:moveTo>
                  <a:pt x="30140" y="0"/>
                </a:moveTo>
                <a:lnTo>
                  <a:pt x="30140" y="21600"/>
                </a:lnTo>
                <a:lnTo>
                  <a:pt x="28740" y="20200"/>
                </a:lnTo>
                <a:lnTo>
                  <a:pt x="28740" y="1400"/>
                </a:lnTo>
                <a:close/>
              </a:path>
              <a:path fill="darkenLess" w="30140" h="21600">
                <a:moveTo>
                  <a:pt x="301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40" y="20200"/>
                </a:lnTo>
                <a:close/>
              </a:path>
              <a:path fill="lighten" w="301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. Adjust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ize &amp; posi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s necessary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4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-4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. Adjust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ize &amp; posi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s necessary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4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-4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>
            <a:hlinkClick r:id="rId2" action="ppaction://hlinksldjump"/>
          </p:cNvPr>
          <p:cNvSpPr/>
          <p:nvPr/>
        </p:nvSpPr>
        <p:spPr>
          <a:xfrm>
            <a:off x="0" y="304920"/>
            <a:ext cx="9144000" cy="6553080"/>
          </a:xfrm>
          <a:custGeom>
            <a:avLst/>
            <a:gdLst>
              <a:gd name="textAreaLeft" fmla="*/ 424440 w 9144000"/>
              <a:gd name="textAreaRight" fmla="*/ 8719560 w 9144000"/>
              <a:gd name="textAreaTop" fmla="*/ 424440 h 6553080"/>
              <a:gd name="textAreaBottom" fmla="*/ 6128640 h 6553080"/>
            </a:gdLst>
            <a:ahLst/>
            <a:rect l="textAreaLeft" t="textAreaTop" r="textAreaRight" b="textAreaBottom"/>
            <a:pathLst>
              <a:path w="30140" h="21600">
                <a:moveTo>
                  <a:pt x="0" y="0"/>
                </a:moveTo>
                <a:lnTo>
                  <a:pt x="30140" y="0"/>
                </a:lnTo>
                <a:lnTo>
                  <a:pt x="30140" y="21600"/>
                </a:lnTo>
                <a:lnTo>
                  <a:pt x="0" y="21600"/>
                </a:lnTo>
                <a:close/>
              </a:path>
              <a:path fill="lightenLess" w="30140" h="21600">
                <a:moveTo>
                  <a:pt x="0" y="0"/>
                </a:moveTo>
                <a:lnTo>
                  <a:pt x="30140" y="0"/>
                </a:lnTo>
                <a:lnTo>
                  <a:pt x="28740" y="1400"/>
                </a:lnTo>
                <a:lnTo>
                  <a:pt x="1400" y="1400"/>
                </a:lnTo>
                <a:close/>
              </a:path>
              <a:path fill="darken" w="30140" h="21600">
                <a:moveTo>
                  <a:pt x="30140" y="0"/>
                </a:moveTo>
                <a:lnTo>
                  <a:pt x="30140" y="21600"/>
                </a:lnTo>
                <a:lnTo>
                  <a:pt x="28740" y="20200"/>
                </a:lnTo>
                <a:lnTo>
                  <a:pt x="28740" y="1400"/>
                </a:lnTo>
                <a:close/>
              </a:path>
              <a:path fill="darkenLess" w="30140" h="21600">
                <a:moveTo>
                  <a:pt x="301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40" y="20200"/>
                </a:lnTo>
                <a:close/>
              </a:path>
              <a:path fill="lighten" w="301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. Adjust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ize &amp; posi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s necessary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5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-5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. Adjust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ize &amp; posi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s necessary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5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-5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>
            <a:hlinkClick r:id="rId2" action="ppaction://hlinksldjump"/>
          </p:cNvPr>
          <p:cNvSpPr/>
          <p:nvPr/>
        </p:nvSpPr>
        <p:spPr>
          <a:xfrm>
            <a:off x="0" y="304920"/>
            <a:ext cx="9144000" cy="6553080"/>
          </a:xfrm>
          <a:custGeom>
            <a:avLst/>
            <a:gdLst>
              <a:gd name="textAreaLeft" fmla="*/ 424440 w 9144000"/>
              <a:gd name="textAreaRight" fmla="*/ 8719560 w 9144000"/>
              <a:gd name="textAreaTop" fmla="*/ 424440 h 6553080"/>
              <a:gd name="textAreaBottom" fmla="*/ 6128640 h 6553080"/>
            </a:gdLst>
            <a:ahLst/>
            <a:rect l="textAreaLeft" t="textAreaTop" r="textAreaRight" b="textAreaBottom"/>
            <a:pathLst>
              <a:path w="30140" h="21600">
                <a:moveTo>
                  <a:pt x="0" y="0"/>
                </a:moveTo>
                <a:lnTo>
                  <a:pt x="30140" y="0"/>
                </a:lnTo>
                <a:lnTo>
                  <a:pt x="30140" y="21600"/>
                </a:lnTo>
                <a:lnTo>
                  <a:pt x="0" y="21600"/>
                </a:lnTo>
                <a:close/>
              </a:path>
              <a:path fill="lightenLess" w="30140" h="21600">
                <a:moveTo>
                  <a:pt x="0" y="0"/>
                </a:moveTo>
                <a:lnTo>
                  <a:pt x="30140" y="0"/>
                </a:lnTo>
                <a:lnTo>
                  <a:pt x="28740" y="1400"/>
                </a:lnTo>
                <a:lnTo>
                  <a:pt x="1400" y="1400"/>
                </a:lnTo>
                <a:close/>
              </a:path>
              <a:path fill="darken" w="30140" h="21600">
                <a:moveTo>
                  <a:pt x="30140" y="0"/>
                </a:moveTo>
                <a:lnTo>
                  <a:pt x="30140" y="21600"/>
                </a:lnTo>
                <a:lnTo>
                  <a:pt x="28740" y="20200"/>
                </a:lnTo>
                <a:lnTo>
                  <a:pt x="28740" y="1400"/>
                </a:lnTo>
                <a:close/>
              </a:path>
              <a:path fill="darkenLess" w="30140" h="21600">
                <a:moveTo>
                  <a:pt x="301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40" y="20200"/>
                </a:lnTo>
                <a:close/>
              </a:path>
              <a:path fill="lighten" w="301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. Adjust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ize &amp; posi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s necessary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1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2-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1447920" y="2590920"/>
            <a:ext cx="61722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ategory 1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9067680" y="6781680"/>
            <a:ext cx="76320" cy="76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. Adjust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ize &amp; posi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s necessary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1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2-1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>
            <a:hlinkClick r:id="rId2" action="ppaction://hlinksldjump"/>
          </p:cNvPr>
          <p:cNvSpPr/>
          <p:nvPr/>
        </p:nvSpPr>
        <p:spPr>
          <a:xfrm>
            <a:off x="0" y="304920"/>
            <a:ext cx="9144000" cy="6553080"/>
          </a:xfrm>
          <a:custGeom>
            <a:avLst/>
            <a:gdLst>
              <a:gd name="textAreaLeft" fmla="*/ 424440 w 9144000"/>
              <a:gd name="textAreaRight" fmla="*/ 8719560 w 9144000"/>
              <a:gd name="textAreaTop" fmla="*/ 424440 h 6553080"/>
              <a:gd name="textAreaBottom" fmla="*/ 6128640 h 6553080"/>
            </a:gdLst>
            <a:ahLst/>
            <a:rect l="textAreaLeft" t="textAreaTop" r="textAreaRight" b="textAreaBottom"/>
            <a:pathLst>
              <a:path w="30140" h="21600">
                <a:moveTo>
                  <a:pt x="0" y="0"/>
                </a:moveTo>
                <a:lnTo>
                  <a:pt x="30140" y="0"/>
                </a:lnTo>
                <a:lnTo>
                  <a:pt x="30140" y="21600"/>
                </a:lnTo>
                <a:lnTo>
                  <a:pt x="0" y="21600"/>
                </a:lnTo>
                <a:close/>
              </a:path>
              <a:path fill="lightenLess" w="30140" h="21600">
                <a:moveTo>
                  <a:pt x="0" y="0"/>
                </a:moveTo>
                <a:lnTo>
                  <a:pt x="30140" y="0"/>
                </a:lnTo>
                <a:lnTo>
                  <a:pt x="28740" y="1400"/>
                </a:lnTo>
                <a:lnTo>
                  <a:pt x="1400" y="1400"/>
                </a:lnTo>
                <a:close/>
              </a:path>
              <a:path fill="darken" w="30140" h="21600">
                <a:moveTo>
                  <a:pt x="30140" y="0"/>
                </a:moveTo>
                <a:lnTo>
                  <a:pt x="30140" y="21600"/>
                </a:lnTo>
                <a:lnTo>
                  <a:pt x="28740" y="20200"/>
                </a:lnTo>
                <a:lnTo>
                  <a:pt x="28740" y="1400"/>
                </a:lnTo>
                <a:close/>
              </a:path>
              <a:path fill="darkenLess" w="30140" h="21600">
                <a:moveTo>
                  <a:pt x="301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40" y="20200"/>
                </a:lnTo>
                <a:close/>
              </a:path>
              <a:path fill="lighten" w="301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. Adjust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ize &amp; posi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s necessary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2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2-2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. Adjust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ize &amp; posi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s necessary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2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2-2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>
            <a:hlinkClick r:id="rId2" action="ppaction://hlinksldjump"/>
          </p:cNvPr>
          <p:cNvSpPr/>
          <p:nvPr/>
        </p:nvSpPr>
        <p:spPr>
          <a:xfrm>
            <a:off x="0" y="304920"/>
            <a:ext cx="9144000" cy="6553080"/>
          </a:xfrm>
          <a:custGeom>
            <a:avLst/>
            <a:gdLst>
              <a:gd name="textAreaLeft" fmla="*/ 424440 w 9144000"/>
              <a:gd name="textAreaRight" fmla="*/ 8719560 w 9144000"/>
              <a:gd name="textAreaTop" fmla="*/ 424440 h 6553080"/>
              <a:gd name="textAreaBottom" fmla="*/ 6128640 h 6553080"/>
            </a:gdLst>
            <a:ahLst/>
            <a:rect l="textAreaLeft" t="textAreaTop" r="textAreaRight" b="textAreaBottom"/>
            <a:pathLst>
              <a:path w="30140" h="21600">
                <a:moveTo>
                  <a:pt x="0" y="0"/>
                </a:moveTo>
                <a:lnTo>
                  <a:pt x="30140" y="0"/>
                </a:lnTo>
                <a:lnTo>
                  <a:pt x="30140" y="21600"/>
                </a:lnTo>
                <a:lnTo>
                  <a:pt x="0" y="21600"/>
                </a:lnTo>
                <a:close/>
              </a:path>
              <a:path fill="lightenLess" w="30140" h="21600">
                <a:moveTo>
                  <a:pt x="0" y="0"/>
                </a:moveTo>
                <a:lnTo>
                  <a:pt x="30140" y="0"/>
                </a:lnTo>
                <a:lnTo>
                  <a:pt x="28740" y="1400"/>
                </a:lnTo>
                <a:lnTo>
                  <a:pt x="1400" y="1400"/>
                </a:lnTo>
                <a:close/>
              </a:path>
              <a:path fill="darken" w="30140" h="21600">
                <a:moveTo>
                  <a:pt x="30140" y="0"/>
                </a:moveTo>
                <a:lnTo>
                  <a:pt x="30140" y="21600"/>
                </a:lnTo>
                <a:lnTo>
                  <a:pt x="28740" y="20200"/>
                </a:lnTo>
                <a:lnTo>
                  <a:pt x="28740" y="1400"/>
                </a:lnTo>
                <a:close/>
              </a:path>
              <a:path fill="darkenLess" w="30140" h="21600">
                <a:moveTo>
                  <a:pt x="301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40" y="20200"/>
                </a:lnTo>
                <a:close/>
              </a:path>
              <a:path fill="lighten" w="301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. Adjust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ize &amp; posi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s necessary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3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2-3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. Adjust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ize &amp; posi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s necessary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3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2-3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>
            <a:hlinkClick r:id="rId2" action="ppaction://hlinksldjump"/>
          </p:cNvPr>
          <p:cNvSpPr/>
          <p:nvPr/>
        </p:nvSpPr>
        <p:spPr>
          <a:xfrm>
            <a:off x="0" y="304920"/>
            <a:ext cx="9144000" cy="6553080"/>
          </a:xfrm>
          <a:custGeom>
            <a:avLst/>
            <a:gdLst>
              <a:gd name="textAreaLeft" fmla="*/ 424440 w 9144000"/>
              <a:gd name="textAreaRight" fmla="*/ 8719560 w 9144000"/>
              <a:gd name="textAreaTop" fmla="*/ 424440 h 6553080"/>
              <a:gd name="textAreaBottom" fmla="*/ 6128640 h 6553080"/>
            </a:gdLst>
            <a:ahLst/>
            <a:rect l="textAreaLeft" t="textAreaTop" r="textAreaRight" b="textAreaBottom"/>
            <a:pathLst>
              <a:path w="30140" h="21600">
                <a:moveTo>
                  <a:pt x="0" y="0"/>
                </a:moveTo>
                <a:lnTo>
                  <a:pt x="30140" y="0"/>
                </a:lnTo>
                <a:lnTo>
                  <a:pt x="30140" y="21600"/>
                </a:lnTo>
                <a:lnTo>
                  <a:pt x="0" y="21600"/>
                </a:lnTo>
                <a:close/>
              </a:path>
              <a:path fill="lightenLess" w="30140" h="21600">
                <a:moveTo>
                  <a:pt x="0" y="0"/>
                </a:moveTo>
                <a:lnTo>
                  <a:pt x="30140" y="0"/>
                </a:lnTo>
                <a:lnTo>
                  <a:pt x="28740" y="1400"/>
                </a:lnTo>
                <a:lnTo>
                  <a:pt x="1400" y="1400"/>
                </a:lnTo>
                <a:close/>
              </a:path>
              <a:path fill="darken" w="30140" h="21600">
                <a:moveTo>
                  <a:pt x="30140" y="0"/>
                </a:moveTo>
                <a:lnTo>
                  <a:pt x="30140" y="21600"/>
                </a:lnTo>
                <a:lnTo>
                  <a:pt x="28740" y="20200"/>
                </a:lnTo>
                <a:lnTo>
                  <a:pt x="28740" y="1400"/>
                </a:lnTo>
                <a:close/>
              </a:path>
              <a:path fill="darkenLess" w="30140" h="21600">
                <a:moveTo>
                  <a:pt x="301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40" y="20200"/>
                </a:lnTo>
                <a:close/>
              </a:path>
              <a:path fill="lighten" w="301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. Adjust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ize &amp; posi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s necessary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4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2-4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. Adjust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ize &amp; posi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s necessary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4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2-4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>
            <a:hlinkClick r:id="rId2" action="ppaction://hlinksldjump"/>
          </p:cNvPr>
          <p:cNvSpPr/>
          <p:nvPr/>
        </p:nvSpPr>
        <p:spPr>
          <a:xfrm>
            <a:off x="0" y="304920"/>
            <a:ext cx="9144000" cy="6553080"/>
          </a:xfrm>
          <a:custGeom>
            <a:avLst/>
            <a:gdLst>
              <a:gd name="textAreaLeft" fmla="*/ 424440 w 9144000"/>
              <a:gd name="textAreaRight" fmla="*/ 8719560 w 9144000"/>
              <a:gd name="textAreaTop" fmla="*/ 424440 h 6553080"/>
              <a:gd name="textAreaBottom" fmla="*/ 6128640 h 6553080"/>
            </a:gdLst>
            <a:ahLst/>
            <a:rect l="textAreaLeft" t="textAreaTop" r="textAreaRight" b="textAreaBottom"/>
            <a:pathLst>
              <a:path w="30140" h="21600">
                <a:moveTo>
                  <a:pt x="0" y="0"/>
                </a:moveTo>
                <a:lnTo>
                  <a:pt x="30140" y="0"/>
                </a:lnTo>
                <a:lnTo>
                  <a:pt x="30140" y="21600"/>
                </a:lnTo>
                <a:lnTo>
                  <a:pt x="0" y="21600"/>
                </a:lnTo>
                <a:close/>
              </a:path>
              <a:path fill="lightenLess" w="30140" h="21600">
                <a:moveTo>
                  <a:pt x="0" y="0"/>
                </a:moveTo>
                <a:lnTo>
                  <a:pt x="30140" y="0"/>
                </a:lnTo>
                <a:lnTo>
                  <a:pt x="28740" y="1400"/>
                </a:lnTo>
                <a:lnTo>
                  <a:pt x="1400" y="1400"/>
                </a:lnTo>
                <a:close/>
              </a:path>
              <a:path fill="darken" w="30140" h="21600">
                <a:moveTo>
                  <a:pt x="30140" y="0"/>
                </a:moveTo>
                <a:lnTo>
                  <a:pt x="30140" y="21600"/>
                </a:lnTo>
                <a:lnTo>
                  <a:pt x="28740" y="20200"/>
                </a:lnTo>
                <a:lnTo>
                  <a:pt x="28740" y="1400"/>
                </a:lnTo>
                <a:close/>
              </a:path>
              <a:path fill="darkenLess" w="30140" h="21600">
                <a:moveTo>
                  <a:pt x="301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40" y="20200"/>
                </a:lnTo>
                <a:close/>
              </a:path>
              <a:path fill="lighten" w="301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. Adjust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ize &amp; posi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s necessary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5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2-5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. Adjust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ize &amp; posi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s necessary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5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2-5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>
            <a:hlinkClick r:id="rId2" action="ppaction://hlinksldjump"/>
          </p:cNvPr>
          <p:cNvSpPr/>
          <p:nvPr/>
        </p:nvSpPr>
        <p:spPr>
          <a:xfrm>
            <a:off x="0" y="304920"/>
            <a:ext cx="9144000" cy="6553080"/>
          </a:xfrm>
          <a:custGeom>
            <a:avLst/>
            <a:gdLst>
              <a:gd name="textAreaLeft" fmla="*/ 424440 w 9144000"/>
              <a:gd name="textAreaRight" fmla="*/ 8719560 w 9144000"/>
              <a:gd name="textAreaTop" fmla="*/ 424440 h 6553080"/>
              <a:gd name="textAreaBottom" fmla="*/ 6128640 h 6553080"/>
            </a:gdLst>
            <a:ahLst/>
            <a:rect l="textAreaLeft" t="textAreaTop" r="textAreaRight" b="textAreaBottom"/>
            <a:pathLst>
              <a:path w="30140" h="21600">
                <a:moveTo>
                  <a:pt x="0" y="0"/>
                </a:moveTo>
                <a:lnTo>
                  <a:pt x="30140" y="0"/>
                </a:lnTo>
                <a:lnTo>
                  <a:pt x="30140" y="21600"/>
                </a:lnTo>
                <a:lnTo>
                  <a:pt x="0" y="21600"/>
                </a:lnTo>
                <a:close/>
              </a:path>
              <a:path fill="lightenLess" w="30140" h="21600">
                <a:moveTo>
                  <a:pt x="0" y="0"/>
                </a:moveTo>
                <a:lnTo>
                  <a:pt x="30140" y="0"/>
                </a:lnTo>
                <a:lnTo>
                  <a:pt x="28740" y="1400"/>
                </a:lnTo>
                <a:lnTo>
                  <a:pt x="1400" y="1400"/>
                </a:lnTo>
                <a:close/>
              </a:path>
              <a:path fill="darken" w="30140" h="21600">
                <a:moveTo>
                  <a:pt x="30140" y="0"/>
                </a:moveTo>
                <a:lnTo>
                  <a:pt x="30140" y="21600"/>
                </a:lnTo>
                <a:lnTo>
                  <a:pt x="28740" y="20200"/>
                </a:lnTo>
                <a:lnTo>
                  <a:pt x="28740" y="1400"/>
                </a:lnTo>
                <a:close/>
              </a:path>
              <a:path fill="darkenLess" w="30140" h="21600">
                <a:moveTo>
                  <a:pt x="301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40" y="20200"/>
                </a:lnTo>
                <a:close/>
              </a:path>
              <a:path fill="lighten" w="301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. Adjust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ize &amp; posi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s necessary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1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3-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1447920" y="2590920"/>
            <a:ext cx="61722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ategory 2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. Adjust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ize &amp; posi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s necessary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1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3-1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>
            <a:hlinkClick r:id="rId2" action="ppaction://hlinksldjump"/>
          </p:cNvPr>
          <p:cNvSpPr/>
          <p:nvPr/>
        </p:nvSpPr>
        <p:spPr>
          <a:xfrm>
            <a:off x="0" y="304920"/>
            <a:ext cx="9144000" cy="6553080"/>
          </a:xfrm>
          <a:custGeom>
            <a:avLst/>
            <a:gdLst>
              <a:gd name="textAreaLeft" fmla="*/ 424440 w 9144000"/>
              <a:gd name="textAreaRight" fmla="*/ 8719560 w 9144000"/>
              <a:gd name="textAreaTop" fmla="*/ 424440 h 6553080"/>
              <a:gd name="textAreaBottom" fmla="*/ 6128640 h 6553080"/>
            </a:gdLst>
            <a:ahLst/>
            <a:rect l="textAreaLeft" t="textAreaTop" r="textAreaRight" b="textAreaBottom"/>
            <a:pathLst>
              <a:path w="30140" h="21600">
                <a:moveTo>
                  <a:pt x="0" y="0"/>
                </a:moveTo>
                <a:lnTo>
                  <a:pt x="30140" y="0"/>
                </a:lnTo>
                <a:lnTo>
                  <a:pt x="30140" y="21600"/>
                </a:lnTo>
                <a:lnTo>
                  <a:pt x="0" y="21600"/>
                </a:lnTo>
                <a:close/>
              </a:path>
              <a:path fill="lightenLess" w="30140" h="21600">
                <a:moveTo>
                  <a:pt x="0" y="0"/>
                </a:moveTo>
                <a:lnTo>
                  <a:pt x="30140" y="0"/>
                </a:lnTo>
                <a:lnTo>
                  <a:pt x="28740" y="1400"/>
                </a:lnTo>
                <a:lnTo>
                  <a:pt x="1400" y="1400"/>
                </a:lnTo>
                <a:close/>
              </a:path>
              <a:path fill="darken" w="30140" h="21600">
                <a:moveTo>
                  <a:pt x="30140" y="0"/>
                </a:moveTo>
                <a:lnTo>
                  <a:pt x="30140" y="21600"/>
                </a:lnTo>
                <a:lnTo>
                  <a:pt x="28740" y="20200"/>
                </a:lnTo>
                <a:lnTo>
                  <a:pt x="28740" y="1400"/>
                </a:lnTo>
                <a:close/>
              </a:path>
              <a:path fill="darkenLess" w="30140" h="21600">
                <a:moveTo>
                  <a:pt x="301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40" y="20200"/>
                </a:lnTo>
                <a:close/>
              </a:path>
              <a:path fill="lighten" w="301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. Adjust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ize &amp; posi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s necessary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2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3-2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. Adjust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ize &amp; posi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s necessary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2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3-2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>
            <a:hlinkClick r:id="rId2" action="ppaction://hlinksldjump"/>
          </p:cNvPr>
          <p:cNvSpPr/>
          <p:nvPr/>
        </p:nvSpPr>
        <p:spPr>
          <a:xfrm>
            <a:off x="0" y="304920"/>
            <a:ext cx="9144000" cy="6553080"/>
          </a:xfrm>
          <a:custGeom>
            <a:avLst/>
            <a:gdLst>
              <a:gd name="textAreaLeft" fmla="*/ 424440 w 9144000"/>
              <a:gd name="textAreaRight" fmla="*/ 8719560 w 9144000"/>
              <a:gd name="textAreaTop" fmla="*/ 424440 h 6553080"/>
              <a:gd name="textAreaBottom" fmla="*/ 6128640 h 6553080"/>
            </a:gdLst>
            <a:ahLst/>
            <a:rect l="textAreaLeft" t="textAreaTop" r="textAreaRight" b="textAreaBottom"/>
            <a:pathLst>
              <a:path w="30140" h="21600">
                <a:moveTo>
                  <a:pt x="0" y="0"/>
                </a:moveTo>
                <a:lnTo>
                  <a:pt x="30140" y="0"/>
                </a:lnTo>
                <a:lnTo>
                  <a:pt x="30140" y="21600"/>
                </a:lnTo>
                <a:lnTo>
                  <a:pt x="0" y="21600"/>
                </a:lnTo>
                <a:close/>
              </a:path>
              <a:path fill="lightenLess" w="30140" h="21600">
                <a:moveTo>
                  <a:pt x="0" y="0"/>
                </a:moveTo>
                <a:lnTo>
                  <a:pt x="30140" y="0"/>
                </a:lnTo>
                <a:lnTo>
                  <a:pt x="28740" y="1400"/>
                </a:lnTo>
                <a:lnTo>
                  <a:pt x="1400" y="1400"/>
                </a:lnTo>
                <a:close/>
              </a:path>
              <a:path fill="darken" w="30140" h="21600">
                <a:moveTo>
                  <a:pt x="30140" y="0"/>
                </a:moveTo>
                <a:lnTo>
                  <a:pt x="30140" y="21600"/>
                </a:lnTo>
                <a:lnTo>
                  <a:pt x="28740" y="20200"/>
                </a:lnTo>
                <a:lnTo>
                  <a:pt x="28740" y="1400"/>
                </a:lnTo>
                <a:close/>
              </a:path>
              <a:path fill="darkenLess" w="30140" h="21600">
                <a:moveTo>
                  <a:pt x="301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40" y="20200"/>
                </a:lnTo>
                <a:close/>
              </a:path>
              <a:path fill="lighten" w="301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. Adjust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ize &amp; posi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s necessary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3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3-3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. Adjust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ize &amp; posi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s necessary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3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3-3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>
            <a:hlinkClick r:id="rId2" action="ppaction://hlinksldjump"/>
          </p:cNvPr>
          <p:cNvSpPr/>
          <p:nvPr/>
        </p:nvSpPr>
        <p:spPr>
          <a:xfrm>
            <a:off x="0" y="304920"/>
            <a:ext cx="9144000" cy="6553080"/>
          </a:xfrm>
          <a:custGeom>
            <a:avLst/>
            <a:gdLst>
              <a:gd name="textAreaLeft" fmla="*/ 424440 w 9144000"/>
              <a:gd name="textAreaRight" fmla="*/ 8719560 w 9144000"/>
              <a:gd name="textAreaTop" fmla="*/ 424440 h 6553080"/>
              <a:gd name="textAreaBottom" fmla="*/ 6128640 h 6553080"/>
            </a:gdLst>
            <a:ahLst/>
            <a:rect l="textAreaLeft" t="textAreaTop" r="textAreaRight" b="textAreaBottom"/>
            <a:pathLst>
              <a:path w="30140" h="21600">
                <a:moveTo>
                  <a:pt x="0" y="0"/>
                </a:moveTo>
                <a:lnTo>
                  <a:pt x="30140" y="0"/>
                </a:lnTo>
                <a:lnTo>
                  <a:pt x="30140" y="21600"/>
                </a:lnTo>
                <a:lnTo>
                  <a:pt x="0" y="21600"/>
                </a:lnTo>
                <a:close/>
              </a:path>
              <a:path fill="lightenLess" w="30140" h="21600">
                <a:moveTo>
                  <a:pt x="0" y="0"/>
                </a:moveTo>
                <a:lnTo>
                  <a:pt x="30140" y="0"/>
                </a:lnTo>
                <a:lnTo>
                  <a:pt x="28740" y="1400"/>
                </a:lnTo>
                <a:lnTo>
                  <a:pt x="1400" y="1400"/>
                </a:lnTo>
                <a:close/>
              </a:path>
              <a:path fill="darken" w="30140" h="21600">
                <a:moveTo>
                  <a:pt x="30140" y="0"/>
                </a:moveTo>
                <a:lnTo>
                  <a:pt x="30140" y="21600"/>
                </a:lnTo>
                <a:lnTo>
                  <a:pt x="28740" y="20200"/>
                </a:lnTo>
                <a:lnTo>
                  <a:pt x="28740" y="1400"/>
                </a:lnTo>
                <a:close/>
              </a:path>
              <a:path fill="darkenLess" w="30140" h="21600">
                <a:moveTo>
                  <a:pt x="301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40" y="20200"/>
                </a:lnTo>
                <a:close/>
              </a:path>
              <a:path fill="lighten" w="301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. Adjust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ize &amp; posi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s necessary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4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3-4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. Adjust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ize &amp; posi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s necessary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4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3-4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>
            <a:hlinkClick r:id="rId2" action="ppaction://hlinksldjump"/>
          </p:cNvPr>
          <p:cNvSpPr/>
          <p:nvPr/>
        </p:nvSpPr>
        <p:spPr>
          <a:xfrm>
            <a:off x="0" y="304920"/>
            <a:ext cx="9144000" cy="6553080"/>
          </a:xfrm>
          <a:custGeom>
            <a:avLst/>
            <a:gdLst>
              <a:gd name="textAreaLeft" fmla="*/ 424440 w 9144000"/>
              <a:gd name="textAreaRight" fmla="*/ 8719560 w 9144000"/>
              <a:gd name="textAreaTop" fmla="*/ 424440 h 6553080"/>
              <a:gd name="textAreaBottom" fmla="*/ 6128640 h 6553080"/>
            </a:gdLst>
            <a:ahLst/>
            <a:rect l="textAreaLeft" t="textAreaTop" r="textAreaRight" b="textAreaBottom"/>
            <a:pathLst>
              <a:path w="30140" h="21600">
                <a:moveTo>
                  <a:pt x="0" y="0"/>
                </a:moveTo>
                <a:lnTo>
                  <a:pt x="30140" y="0"/>
                </a:lnTo>
                <a:lnTo>
                  <a:pt x="30140" y="21600"/>
                </a:lnTo>
                <a:lnTo>
                  <a:pt x="0" y="21600"/>
                </a:lnTo>
                <a:close/>
              </a:path>
              <a:path fill="lightenLess" w="30140" h="21600">
                <a:moveTo>
                  <a:pt x="0" y="0"/>
                </a:moveTo>
                <a:lnTo>
                  <a:pt x="30140" y="0"/>
                </a:lnTo>
                <a:lnTo>
                  <a:pt x="28740" y="1400"/>
                </a:lnTo>
                <a:lnTo>
                  <a:pt x="1400" y="1400"/>
                </a:lnTo>
                <a:close/>
              </a:path>
              <a:path fill="darken" w="30140" h="21600">
                <a:moveTo>
                  <a:pt x="30140" y="0"/>
                </a:moveTo>
                <a:lnTo>
                  <a:pt x="30140" y="21600"/>
                </a:lnTo>
                <a:lnTo>
                  <a:pt x="28740" y="20200"/>
                </a:lnTo>
                <a:lnTo>
                  <a:pt x="28740" y="1400"/>
                </a:lnTo>
                <a:close/>
              </a:path>
              <a:path fill="darkenLess" w="30140" h="21600">
                <a:moveTo>
                  <a:pt x="301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40" y="20200"/>
                </a:lnTo>
                <a:close/>
              </a:path>
              <a:path fill="lighten" w="301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. Adjust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ize &amp; posi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s necessary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5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3-5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. Adjust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ize &amp; posi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s necessary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5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3-5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>
            <a:hlinkClick r:id="rId2" action="ppaction://hlinksldjump"/>
          </p:cNvPr>
          <p:cNvSpPr/>
          <p:nvPr/>
        </p:nvSpPr>
        <p:spPr>
          <a:xfrm>
            <a:off x="0" y="304920"/>
            <a:ext cx="9144000" cy="6553080"/>
          </a:xfrm>
          <a:custGeom>
            <a:avLst/>
            <a:gdLst>
              <a:gd name="textAreaLeft" fmla="*/ 424440 w 9144000"/>
              <a:gd name="textAreaRight" fmla="*/ 8719560 w 9144000"/>
              <a:gd name="textAreaTop" fmla="*/ 424440 h 6553080"/>
              <a:gd name="textAreaBottom" fmla="*/ 6128640 h 6553080"/>
            </a:gdLst>
            <a:ahLst/>
            <a:rect l="textAreaLeft" t="textAreaTop" r="textAreaRight" b="textAreaBottom"/>
            <a:pathLst>
              <a:path w="30140" h="21600">
                <a:moveTo>
                  <a:pt x="0" y="0"/>
                </a:moveTo>
                <a:lnTo>
                  <a:pt x="30140" y="0"/>
                </a:lnTo>
                <a:lnTo>
                  <a:pt x="30140" y="21600"/>
                </a:lnTo>
                <a:lnTo>
                  <a:pt x="0" y="21600"/>
                </a:lnTo>
                <a:close/>
              </a:path>
              <a:path fill="lightenLess" w="30140" h="21600">
                <a:moveTo>
                  <a:pt x="0" y="0"/>
                </a:moveTo>
                <a:lnTo>
                  <a:pt x="30140" y="0"/>
                </a:lnTo>
                <a:lnTo>
                  <a:pt x="28740" y="1400"/>
                </a:lnTo>
                <a:lnTo>
                  <a:pt x="1400" y="1400"/>
                </a:lnTo>
                <a:close/>
              </a:path>
              <a:path fill="darken" w="30140" h="21600">
                <a:moveTo>
                  <a:pt x="30140" y="0"/>
                </a:moveTo>
                <a:lnTo>
                  <a:pt x="30140" y="21600"/>
                </a:lnTo>
                <a:lnTo>
                  <a:pt x="28740" y="20200"/>
                </a:lnTo>
                <a:lnTo>
                  <a:pt x="28740" y="1400"/>
                </a:lnTo>
                <a:close/>
              </a:path>
              <a:path fill="darkenLess" w="30140" h="21600">
                <a:moveTo>
                  <a:pt x="301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40" y="20200"/>
                </a:lnTo>
                <a:close/>
              </a:path>
              <a:path fill="lighten" w="301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. Adjust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ize &amp; posi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s necessary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1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4-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1447920" y="2590920"/>
            <a:ext cx="61722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ategory 3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. Adjust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ize &amp; posi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s necessary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1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4-1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>
            <a:hlinkClick r:id="rId2" action="ppaction://hlinksldjump"/>
          </p:cNvPr>
          <p:cNvSpPr/>
          <p:nvPr/>
        </p:nvSpPr>
        <p:spPr>
          <a:xfrm>
            <a:off x="0" y="304920"/>
            <a:ext cx="9144000" cy="6553080"/>
          </a:xfrm>
          <a:custGeom>
            <a:avLst/>
            <a:gdLst>
              <a:gd name="textAreaLeft" fmla="*/ 424440 w 9144000"/>
              <a:gd name="textAreaRight" fmla="*/ 8719560 w 9144000"/>
              <a:gd name="textAreaTop" fmla="*/ 424440 h 6553080"/>
              <a:gd name="textAreaBottom" fmla="*/ 6128640 h 6553080"/>
            </a:gdLst>
            <a:ahLst/>
            <a:rect l="textAreaLeft" t="textAreaTop" r="textAreaRight" b="textAreaBottom"/>
            <a:pathLst>
              <a:path w="30140" h="21600">
                <a:moveTo>
                  <a:pt x="0" y="0"/>
                </a:moveTo>
                <a:lnTo>
                  <a:pt x="30140" y="0"/>
                </a:lnTo>
                <a:lnTo>
                  <a:pt x="30140" y="21600"/>
                </a:lnTo>
                <a:lnTo>
                  <a:pt x="0" y="21600"/>
                </a:lnTo>
                <a:close/>
              </a:path>
              <a:path fill="lightenLess" w="30140" h="21600">
                <a:moveTo>
                  <a:pt x="0" y="0"/>
                </a:moveTo>
                <a:lnTo>
                  <a:pt x="30140" y="0"/>
                </a:lnTo>
                <a:lnTo>
                  <a:pt x="28740" y="1400"/>
                </a:lnTo>
                <a:lnTo>
                  <a:pt x="1400" y="1400"/>
                </a:lnTo>
                <a:close/>
              </a:path>
              <a:path fill="darken" w="30140" h="21600">
                <a:moveTo>
                  <a:pt x="30140" y="0"/>
                </a:moveTo>
                <a:lnTo>
                  <a:pt x="30140" y="21600"/>
                </a:lnTo>
                <a:lnTo>
                  <a:pt x="28740" y="20200"/>
                </a:lnTo>
                <a:lnTo>
                  <a:pt x="28740" y="1400"/>
                </a:lnTo>
                <a:close/>
              </a:path>
              <a:path fill="darkenLess" w="30140" h="21600">
                <a:moveTo>
                  <a:pt x="301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40" y="20200"/>
                </a:lnTo>
                <a:close/>
              </a:path>
              <a:path fill="lighten" w="301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. Adjust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ize &amp; posi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s necessary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2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4-2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. Adjust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ize &amp; posi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s necessary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2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4-2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>
            <a:hlinkClick r:id="rId2" action="ppaction://hlinksldjump"/>
          </p:cNvPr>
          <p:cNvSpPr/>
          <p:nvPr/>
        </p:nvSpPr>
        <p:spPr>
          <a:xfrm>
            <a:off x="0" y="304920"/>
            <a:ext cx="9144000" cy="6553080"/>
          </a:xfrm>
          <a:custGeom>
            <a:avLst/>
            <a:gdLst>
              <a:gd name="textAreaLeft" fmla="*/ 424440 w 9144000"/>
              <a:gd name="textAreaRight" fmla="*/ 8719560 w 9144000"/>
              <a:gd name="textAreaTop" fmla="*/ 424440 h 6553080"/>
              <a:gd name="textAreaBottom" fmla="*/ 6128640 h 6553080"/>
            </a:gdLst>
            <a:ahLst/>
            <a:rect l="textAreaLeft" t="textAreaTop" r="textAreaRight" b="textAreaBottom"/>
            <a:pathLst>
              <a:path w="30140" h="21600">
                <a:moveTo>
                  <a:pt x="0" y="0"/>
                </a:moveTo>
                <a:lnTo>
                  <a:pt x="30140" y="0"/>
                </a:lnTo>
                <a:lnTo>
                  <a:pt x="30140" y="21600"/>
                </a:lnTo>
                <a:lnTo>
                  <a:pt x="0" y="21600"/>
                </a:lnTo>
                <a:close/>
              </a:path>
              <a:path fill="lightenLess" w="30140" h="21600">
                <a:moveTo>
                  <a:pt x="0" y="0"/>
                </a:moveTo>
                <a:lnTo>
                  <a:pt x="30140" y="0"/>
                </a:lnTo>
                <a:lnTo>
                  <a:pt x="28740" y="1400"/>
                </a:lnTo>
                <a:lnTo>
                  <a:pt x="1400" y="1400"/>
                </a:lnTo>
                <a:close/>
              </a:path>
              <a:path fill="darken" w="30140" h="21600">
                <a:moveTo>
                  <a:pt x="30140" y="0"/>
                </a:moveTo>
                <a:lnTo>
                  <a:pt x="30140" y="21600"/>
                </a:lnTo>
                <a:lnTo>
                  <a:pt x="28740" y="20200"/>
                </a:lnTo>
                <a:lnTo>
                  <a:pt x="28740" y="1400"/>
                </a:lnTo>
                <a:close/>
              </a:path>
              <a:path fill="darkenLess" w="30140" h="21600">
                <a:moveTo>
                  <a:pt x="301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40" y="20200"/>
                </a:lnTo>
                <a:close/>
              </a:path>
              <a:path fill="lighten" w="301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. Adjust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ize &amp; posi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s necessary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3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4-3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. Adjust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ize &amp; posi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s necessary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3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4-3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>
            <a:hlinkClick r:id="rId2" action="ppaction://hlinksldjump"/>
          </p:cNvPr>
          <p:cNvSpPr/>
          <p:nvPr/>
        </p:nvSpPr>
        <p:spPr>
          <a:xfrm>
            <a:off x="0" y="304920"/>
            <a:ext cx="9144000" cy="6553080"/>
          </a:xfrm>
          <a:custGeom>
            <a:avLst/>
            <a:gdLst>
              <a:gd name="textAreaLeft" fmla="*/ 424440 w 9144000"/>
              <a:gd name="textAreaRight" fmla="*/ 8719560 w 9144000"/>
              <a:gd name="textAreaTop" fmla="*/ 424440 h 6553080"/>
              <a:gd name="textAreaBottom" fmla="*/ 6128640 h 6553080"/>
            </a:gdLst>
            <a:ahLst/>
            <a:rect l="textAreaLeft" t="textAreaTop" r="textAreaRight" b="textAreaBottom"/>
            <a:pathLst>
              <a:path w="30140" h="21600">
                <a:moveTo>
                  <a:pt x="0" y="0"/>
                </a:moveTo>
                <a:lnTo>
                  <a:pt x="30140" y="0"/>
                </a:lnTo>
                <a:lnTo>
                  <a:pt x="30140" y="21600"/>
                </a:lnTo>
                <a:lnTo>
                  <a:pt x="0" y="21600"/>
                </a:lnTo>
                <a:close/>
              </a:path>
              <a:path fill="lightenLess" w="30140" h="21600">
                <a:moveTo>
                  <a:pt x="0" y="0"/>
                </a:moveTo>
                <a:lnTo>
                  <a:pt x="30140" y="0"/>
                </a:lnTo>
                <a:lnTo>
                  <a:pt x="28740" y="1400"/>
                </a:lnTo>
                <a:lnTo>
                  <a:pt x="1400" y="1400"/>
                </a:lnTo>
                <a:close/>
              </a:path>
              <a:path fill="darken" w="30140" h="21600">
                <a:moveTo>
                  <a:pt x="30140" y="0"/>
                </a:moveTo>
                <a:lnTo>
                  <a:pt x="30140" y="21600"/>
                </a:lnTo>
                <a:lnTo>
                  <a:pt x="28740" y="20200"/>
                </a:lnTo>
                <a:lnTo>
                  <a:pt x="28740" y="1400"/>
                </a:lnTo>
                <a:close/>
              </a:path>
              <a:path fill="darkenLess" w="30140" h="21600">
                <a:moveTo>
                  <a:pt x="301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40" y="20200"/>
                </a:lnTo>
                <a:close/>
              </a:path>
              <a:path fill="lighten" w="301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. Adjust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ize &amp; posi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s necessary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4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4-4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. Adjust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ize &amp; posi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s necessary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4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4-4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0" y="304920"/>
            <a:ext cx="9144000" cy="6553080"/>
          </a:xfrm>
          <a:custGeom>
            <a:avLst/>
            <a:gdLst>
              <a:gd name="textAreaLeft" fmla="*/ 424440 w 9144000"/>
              <a:gd name="textAreaRight" fmla="*/ 8719560 w 9144000"/>
              <a:gd name="textAreaTop" fmla="*/ 424440 h 6553080"/>
              <a:gd name="textAreaBottom" fmla="*/ 6128640 h 6553080"/>
            </a:gdLst>
            <a:ahLst/>
            <a:rect l="textAreaLeft" t="textAreaTop" r="textAreaRight" b="textAreaBottom"/>
            <a:pathLst>
              <a:path w="30140" h="21600">
                <a:moveTo>
                  <a:pt x="0" y="0"/>
                </a:moveTo>
                <a:lnTo>
                  <a:pt x="30140" y="0"/>
                </a:lnTo>
                <a:lnTo>
                  <a:pt x="30140" y="21600"/>
                </a:lnTo>
                <a:lnTo>
                  <a:pt x="0" y="21600"/>
                </a:lnTo>
                <a:close/>
              </a:path>
              <a:path fill="lightenLess" w="30140" h="21600">
                <a:moveTo>
                  <a:pt x="0" y="0"/>
                </a:moveTo>
                <a:lnTo>
                  <a:pt x="30140" y="0"/>
                </a:lnTo>
                <a:lnTo>
                  <a:pt x="28740" y="1400"/>
                </a:lnTo>
                <a:lnTo>
                  <a:pt x="1400" y="1400"/>
                </a:lnTo>
                <a:close/>
              </a:path>
              <a:path fill="darken" w="30140" h="21600">
                <a:moveTo>
                  <a:pt x="30140" y="0"/>
                </a:moveTo>
                <a:lnTo>
                  <a:pt x="30140" y="21600"/>
                </a:lnTo>
                <a:lnTo>
                  <a:pt x="28740" y="20200"/>
                </a:lnTo>
                <a:lnTo>
                  <a:pt x="28740" y="1400"/>
                </a:lnTo>
                <a:close/>
              </a:path>
              <a:path fill="darkenLess" w="30140" h="21600">
                <a:moveTo>
                  <a:pt x="301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40" y="20200"/>
                </a:lnTo>
                <a:close/>
              </a:path>
              <a:path fill="lighten" w="301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. Adjust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ize &amp; posi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s necessary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5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4-5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. Adjust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ize &amp; posi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s necessary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5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4-5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0" y="304920"/>
            <a:ext cx="9144000" cy="6553080"/>
          </a:xfrm>
          <a:custGeom>
            <a:avLst/>
            <a:gdLst>
              <a:gd name="textAreaLeft" fmla="*/ 424440 w 9144000"/>
              <a:gd name="textAreaRight" fmla="*/ 8719560 w 9144000"/>
              <a:gd name="textAreaTop" fmla="*/ 424440 h 6553080"/>
              <a:gd name="textAreaBottom" fmla="*/ 6128640 h 6553080"/>
            </a:gdLst>
            <a:ahLst/>
            <a:rect l="textAreaLeft" t="textAreaTop" r="textAreaRight" b="textAreaBottom"/>
            <a:pathLst>
              <a:path w="30140" h="21600">
                <a:moveTo>
                  <a:pt x="0" y="0"/>
                </a:moveTo>
                <a:lnTo>
                  <a:pt x="30140" y="0"/>
                </a:lnTo>
                <a:lnTo>
                  <a:pt x="30140" y="21600"/>
                </a:lnTo>
                <a:lnTo>
                  <a:pt x="0" y="21600"/>
                </a:lnTo>
                <a:close/>
              </a:path>
              <a:path fill="lightenLess" w="30140" h="21600">
                <a:moveTo>
                  <a:pt x="0" y="0"/>
                </a:moveTo>
                <a:lnTo>
                  <a:pt x="30140" y="0"/>
                </a:lnTo>
                <a:lnTo>
                  <a:pt x="28740" y="1400"/>
                </a:lnTo>
                <a:lnTo>
                  <a:pt x="1400" y="1400"/>
                </a:lnTo>
                <a:close/>
              </a:path>
              <a:path fill="darken" w="30140" h="21600">
                <a:moveTo>
                  <a:pt x="30140" y="0"/>
                </a:moveTo>
                <a:lnTo>
                  <a:pt x="30140" y="21600"/>
                </a:lnTo>
                <a:lnTo>
                  <a:pt x="28740" y="20200"/>
                </a:lnTo>
                <a:lnTo>
                  <a:pt x="28740" y="1400"/>
                </a:lnTo>
                <a:close/>
              </a:path>
              <a:path fill="darkenLess" w="30140" h="21600">
                <a:moveTo>
                  <a:pt x="301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40" y="20200"/>
                </a:lnTo>
                <a:close/>
              </a:path>
              <a:path fill="lighten" w="301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. Adjust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ize &amp; posi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s necessary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1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5-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1447920" y="2590920"/>
            <a:ext cx="61722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ategory 4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. Adjust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ize &amp; posi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s necessary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1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5-1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0" y="304920"/>
            <a:ext cx="9144000" cy="6553080"/>
          </a:xfrm>
          <a:custGeom>
            <a:avLst/>
            <a:gdLst>
              <a:gd name="textAreaLeft" fmla="*/ 424440 w 9144000"/>
              <a:gd name="textAreaRight" fmla="*/ 8719560 w 9144000"/>
              <a:gd name="textAreaTop" fmla="*/ 424440 h 6553080"/>
              <a:gd name="textAreaBottom" fmla="*/ 6128640 h 6553080"/>
            </a:gdLst>
            <a:ahLst/>
            <a:rect l="textAreaLeft" t="textAreaTop" r="textAreaRight" b="textAreaBottom"/>
            <a:pathLst>
              <a:path w="30140" h="21600">
                <a:moveTo>
                  <a:pt x="0" y="0"/>
                </a:moveTo>
                <a:lnTo>
                  <a:pt x="30140" y="0"/>
                </a:lnTo>
                <a:lnTo>
                  <a:pt x="30140" y="21600"/>
                </a:lnTo>
                <a:lnTo>
                  <a:pt x="0" y="21600"/>
                </a:lnTo>
                <a:close/>
              </a:path>
              <a:path fill="lightenLess" w="30140" h="21600">
                <a:moveTo>
                  <a:pt x="0" y="0"/>
                </a:moveTo>
                <a:lnTo>
                  <a:pt x="30140" y="0"/>
                </a:lnTo>
                <a:lnTo>
                  <a:pt x="28740" y="1400"/>
                </a:lnTo>
                <a:lnTo>
                  <a:pt x="1400" y="1400"/>
                </a:lnTo>
                <a:close/>
              </a:path>
              <a:path fill="darken" w="30140" h="21600">
                <a:moveTo>
                  <a:pt x="30140" y="0"/>
                </a:moveTo>
                <a:lnTo>
                  <a:pt x="30140" y="21600"/>
                </a:lnTo>
                <a:lnTo>
                  <a:pt x="28740" y="20200"/>
                </a:lnTo>
                <a:lnTo>
                  <a:pt x="28740" y="1400"/>
                </a:lnTo>
                <a:close/>
              </a:path>
              <a:path fill="darkenLess" w="30140" h="21600">
                <a:moveTo>
                  <a:pt x="301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40" y="20200"/>
                </a:lnTo>
                <a:close/>
              </a:path>
              <a:path fill="lighten" w="301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. Adjust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ize &amp; posi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s necessary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2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5-2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. Adjust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ize &amp; posi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s necessary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2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5-2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0" y="304920"/>
            <a:ext cx="9144000" cy="6553080"/>
          </a:xfrm>
          <a:custGeom>
            <a:avLst/>
            <a:gdLst>
              <a:gd name="textAreaLeft" fmla="*/ 424440 w 9144000"/>
              <a:gd name="textAreaRight" fmla="*/ 8719560 w 9144000"/>
              <a:gd name="textAreaTop" fmla="*/ 424440 h 6553080"/>
              <a:gd name="textAreaBottom" fmla="*/ 6128640 h 6553080"/>
            </a:gdLst>
            <a:ahLst/>
            <a:rect l="textAreaLeft" t="textAreaTop" r="textAreaRight" b="textAreaBottom"/>
            <a:pathLst>
              <a:path w="30140" h="21600">
                <a:moveTo>
                  <a:pt x="0" y="0"/>
                </a:moveTo>
                <a:lnTo>
                  <a:pt x="30140" y="0"/>
                </a:lnTo>
                <a:lnTo>
                  <a:pt x="30140" y="21600"/>
                </a:lnTo>
                <a:lnTo>
                  <a:pt x="0" y="21600"/>
                </a:lnTo>
                <a:close/>
              </a:path>
              <a:path fill="lightenLess" w="30140" h="21600">
                <a:moveTo>
                  <a:pt x="0" y="0"/>
                </a:moveTo>
                <a:lnTo>
                  <a:pt x="30140" y="0"/>
                </a:lnTo>
                <a:lnTo>
                  <a:pt x="28740" y="1400"/>
                </a:lnTo>
                <a:lnTo>
                  <a:pt x="1400" y="1400"/>
                </a:lnTo>
                <a:close/>
              </a:path>
              <a:path fill="darken" w="30140" h="21600">
                <a:moveTo>
                  <a:pt x="30140" y="0"/>
                </a:moveTo>
                <a:lnTo>
                  <a:pt x="30140" y="21600"/>
                </a:lnTo>
                <a:lnTo>
                  <a:pt x="28740" y="20200"/>
                </a:lnTo>
                <a:lnTo>
                  <a:pt x="28740" y="1400"/>
                </a:lnTo>
                <a:close/>
              </a:path>
              <a:path fill="darkenLess" w="30140" h="21600">
                <a:moveTo>
                  <a:pt x="301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40" y="20200"/>
                </a:lnTo>
                <a:close/>
              </a:path>
              <a:path fill="lighten" w="301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. Adjust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ize &amp; posi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s necessary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3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5-3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. Adjust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ize &amp; posi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s necessary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3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5-3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0" y="304920"/>
            <a:ext cx="9144000" cy="6553080"/>
          </a:xfrm>
          <a:custGeom>
            <a:avLst/>
            <a:gdLst>
              <a:gd name="textAreaLeft" fmla="*/ 424440 w 9144000"/>
              <a:gd name="textAreaRight" fmla="*/ 8719560 w 9144000"/>
              <a:gd name="textAreaTop" fmla="*/ 424440 h 6553080"/>
              <a:gd name="textAreaBottom" fmla="*/ 6128640 h 6553080"/>
            </a:gdLst>
            <a:ahLst/>
            <a:rect l="textAreaLeft" t="textAreaTop" r="textAreaRight" b="textAreaBottom"/>
            <a:pathLst>
              <a:path w="30140" h="21600">
                <a:moveTo>
                  <a:pt x="0" y="0"/>
                </a:moveTo>
                <a:lnTo>
                  <a:pt x="30140" y="0"/>
                </a:lnTo>
                <a:lnTo>
                  <a:pt x="30140" y="21600"/>
                </a:lnTo>
                <a:lnTo>
                  <a:pt x="0" y="21600"/>
                </a:lnTo>
                <a:close/>
              </a:path>
              <a:path fill="lightenLess" w="30140" h="21600">
                <a:moveTo>
                  <a:pt x="0" y="0"/>
                </a:moveTo>
                <a:lnTo>
                  <a:pt x="30140" y="0"/>
                </a:lnTo>
                <a:lnTo>
                  <a:pt x="28740" y="1400"/>
                </a:lnTo>
                <a:lnTo>
                  <a:pt x="1400" y="1400"/>
                </a:lnTo>
                <a:close/>
              </a:path>
              <a:path fill="darken" w="30140" h="21600">
                <a:moveTo>
                  <a:pt x="30140" y="0"/>
                </a:moveTo>
                <a:lnTo>
                  <a:pt x="30140" y="21600"/>
                </a:lnTo>
                <a:lnTo>
                  <a:pt x="28740" y="20200"/>
                </a:lnTo>
                <a:lnTo>
                  <a:pt x="28740" y="1400"/>
                </a:lnTo>
                <a:close/>
              </a:path>
              <a:path fill="darkenLess" w="30140" h="21600">
                <a:moveTo>
                  <a:pt x="301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40" y="20200"/>
                </a:lnTo>
                <a:close/>
              </a:path>
              <a:path fill="lighten" w="301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. Adjust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ize &amp; posi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s necessary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4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5-4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. Adjust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ize &amp; posi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s necessary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4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5-4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0" y="304920"/>
            <a:ext cx="9144000" cy="6553080"/>
          </a:xfrm>
          <a:custGeom>
            <a:avLst/>
            <a:gdLst>
              <a:gd name="textAreaLeft" fmla="*/ 424440 w 9144000"/>
              <a:gd name="textAreaRight" fmla="*/ 8719560 w 9144000"/>
              <a:gd name="textAreaTop" fmla="*/ 424440 h 6553080"/>
              <a:gd name="textAreaBottom" fmla="*/ 6128640 h 6553080"/>
            </a:gdLst>
            <a:ahLst/>
            <a:rect l="textAreaLeft" t="textAreaTop" r="textAreaRight" b="textAreaBottom"/>
            <a:pathLst>
              <a:path w="30140" h="21600">
                <a:moveTo>
                  <a:pt x="0" y="0"/>
                </a:moveTo>
                <a:lnTo>
                  <a:pt x="30140" y="0"/>
                </a:lnTo>
                <a:lnTo>
                  <a:pt x="30140" y="21600"/>
                </a:lnTo>
                <a:lnTo>
                  <a:pt x="0" y="21600"/>
                </a:lnTo>
                <a:close/>
              </a:path>
              <a:path fill="lightenLess" w="30140" h="21600">
                <a:moveTo>
                  <a:pt x="0" y="0"/>
                </a:moveTo>
                <a:lnTo>
                  <a:pt x="30140" y="0"/>
                </a:lnTo>
                <a:lnTo>
                  <a:pt x="28740" y="1400"/>
                </a:lnTo>
                <a:lnTo>
                  <a:pt x="1400" y="1400"/>
                </a:lnTo>
                <a:close/>
              </a:path>
              <a:path fill="darken" w="30140" h="21600">
                <a:moveTo>
                  <a:pt x="30140" y="0"/>
                </a:moveTo>
                <a:lnTo>
                  <a:pt x="30140" y="21600"/>
                </a:lnTo>
                <a:lnTo>
                  <a:pt x="28740" y="20200"/>
                </a:lnTo>
                <a:lnTo>
                  <a:pt x="28740" y="1400"/>
                </a:lnTo>
                <a:close/>
              </a:path>
              <a:path fill="darkenLess" w="30140" h="21600">
                <a:moveTo>
                  <a:pt x="301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40" y="20200"/>
                </a:lnTo>
                <a:close/>
              </a:path>
              <a:path fill="lighten" w="301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. Adjust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ize &amp; posi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s necessary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5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5-5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. Adjust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ize &amp; posi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s necessary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5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5-5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0" y="304920"/>
            <a:ext cx="9144000" cy="6553080"/>
          </a:xfrm>
          <a:custGeom>
            <a:avLst/>
            <a:gdLst>
              <a:gd name="textAreaLeft" fmla="*/ 424440 w 9144000"/>
              <a:gd name="textAreaRight" fmla="*/ 8719560 w 9144000"/>
              <a:gd name="textAreaTop" fmla="*/ 424440 h 6553080"/>
              <a:gd name="textAreaBottom" fmla="*/ 6128640 h 6553080"/>
            </a:gdLst>
            <a:ahLst/>
            <a:rect l="textAreaLeft" t="textAreaTop" r="textAreaRight" b="textAreaBottom"/>
            <a:pathLst>
              <a:path w="30140" h="21600">
                <a:moveTo>
                  <a:pt x="0" y="0"/>
                </a:moveTo>
                <a:lnTo>
                  <a:pt x="30140" y="0"/>
                </a:lnTo>
                <a:lnTo>
                  <a:pt x="30140" y="21600"/>
                </a:lnTo>
                <a:lnTo>
                  <a:pt x="0" y="21600"/>
                </a:lnTo>
                <a:close/>
              </a:path>
              <a:path fill="lightenLess" w="30140" h="21600">
                <a:moveTo>
                  <a:pt x="0" y="0"/>
                </a:moveTo>
                <a:lnTo>
                  <a:pt x="30140" y="0"/>
                </a:lnTo>
                <a:lnTo>
                  <a:pt x="28740" y="1400"/>
                </a:lnTo>
                <a:lnTo>
                  <a:pt x="1400" y="1400"/>
                </a:lnTo>
                <a:close/>
              </a:path>
              <a:path fill="darken" w="30140" h="21600">
                <a:moveTo>
                  <a:pt x="30140" y="0"/>
                </a:moveTo>
                <a:lnTo>
                  <a:pt x="30140" y="21600"/>
                </a:lnTo>
                <a:lnTo>
                  <a:pt x="28740" y="20200"/>
                </a:lnTo>
                <a:lnTo>
                  <a:pt x="28740" y="1400"/>
                </a:lnTo>
                <a:close/>
              </a:path>
              <a:path fill="darkenLess" w="30140" h="21600">
                <a:moveTo>
                  <a:pt x="301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40" y="20200"/>
                </a:lnTo>
                <a:close/>
              </a:path>
              <a:path fill="lighten" w="301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. Adjust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ize &amp; posi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s necessary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1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6-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1447920" y="2666880"/>
            <a:ext cx="61722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ategory 5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. Adjust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ize &amp; posi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s necessary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1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6-1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0" y="304920"/>
            <a:ext cx="9144000" cy="6553080"/>
          </a:xfrm>
          <a:custGeom>
            <a:avLst/>
            <a:gdLst>
              <a:gd name="textAreaLeft" fmla="*/ 424440 w 9144000"/>
              <a:gd name="textAreaRight" fmla="*/ 8719560 w 9144000"/>
              <a:gd name="textAreaTop" fmla="*/ 424440 h 6553080"/>
              <a:gd name="textAreaBottom" fmla="*/ 6128640 h 6553080"/>
            </a:gdLst>
            <a:ahLst/>
            <a:rect l="textAreaLeft" t="textAreaTop" r="textAreaRight" b="textAreaBottom"/>
            <a:pathLst>
              <a:path w="30140" h="21600">
                <a:moveTo>
                  <a:pt x="0" y="0"/>
                </a:moveTo>
                <a:lnTo>
                  <a:pt x="30140" y="0"/>
                </a:lnTo>
                <a:lnTo>
                  <a:pt x="30140" y="21600"/>
                </a:lnTo>
                <a:lnTo>
                  <a:pt x="0" y="21600"/>
                </a:lnTo>
                <a:close/>
              </a:path>
              <a:path fill="lightenLess" w="30140" h="21600">
                <a:moveTo>
                  <a:pt x="0" y="0"/>
                </a:moveTo>
                <a:lnTo>
                  <a:pt x="30140" y="0"/>
                </a:lnTo>
                <a:lnTo>
                  <a:pt x="28740" y="1400"/>
                </a:lnTo>
                <a:lnTo>
                  <a:pt x="1400" y="1400"/>
                </a:lnTo>
                <a:close/>
              </a:path>
              <a:path fill="darken" w="30140" h="21600">
                <a:moveTo>
                  <a:pt x="30140" y="0"/>
                </a:moveTo>
                <a:lnTo>
                  <a:pt x="30140" y="21600"/>
                </a:lnTo>
                <a:lnTo>
                  <a:pt x="28740" y="20200"/>
                </a:lnTo>
                <a:lnTo>
                  <a:pt x="28740" y="1400"/>
                </a:lnTo>
                <a:close/>
              </a:path>
              <a:path fill="darkenLess" w="30140" h="21600">
                <a:moveTo>
                  <a:pt x="301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40" y="20200"/>
                </a:lnTo>
                <a:close/>
              </a:path>
              <a:path fill="lighten" w="301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. Adjust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ize &amp; posi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s necessary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2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6-2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. Adjust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ize &amp; posi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s necessary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2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6-2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0" y="304920"/>
            <a:ext cx="9144000" cy="6553080"/>
          </a:xfrm>
          <a:custGeom>
            <a:avLst/>
            <a:gdLst>
              <a:gd name="textAreaLeft" fmla="*/ 424440 w 9144000"/>
              <a:gd name="textAreaRight" fmla="*/ 8719560 w 9144000"/>
              <a:gd name="textAreaTop" fmla="*/ 424440 h 6553080"/>
              <a:gd name="textAreaBottom" fmla="*/ 6128640 h 6553080"/>
            </a:gdLst>
            <a:ahLst/>
            <a:rect l="textAreaLeft" t="textAreaTop" r="textAreaRight" b="textAreaBottom"/>
            <a:pathLst>
              <a:path w="30140" h="21600">
                <a:moveTo>
                  <a:pt x="0" y="0"/>
                </a:moveTo>
                <a:lnTo>
                  <a:pt x="30140" y="0"/>
                </a:lnTo>
                <a:lnTo>
                  <a:pt x="30140" y="21600"/>
                </a:lnTo>
                <a:lnTo>
                  <a:pt x="0" y="21600"/>
                </a:lnTo>
                <a:close/>
              </a:path>
              <a:path fill="lightenLess" w="30140" h="21600">
                <a:moveTo>
                  <a:pt x="0" y="0"/>
                </a:moveTo>
                <a:lnTo>
                  <a:pt x="30140" y="0"/>
                </a:lnTo>
                <a:lnTo>
                  <a:pt x="28740" y="1400"/>
                </a:lnTo>
                <a:lnTo>
                  <a:pt x="1400" y="1400"/>
                </a:lnTo>
                <a:close/>
              </a:path>
              <a:path fill="darken" w="30140" h="21600">
                <a:moveTo>
                  <a:pt x="30140" y="0"/>
                </a:moveTo>
                <a:lnTo>
                  <a:pt x="30140" y="21600"/>
                </a:lnTo>
                <a:lnTo>
                  <a:pt x="28740" y="20200"/>
                </a:lnTo>
                <a:lnTo>
                  <a:pt x="28740" y="1400"/>
                </a:lnTo>
                <a:close/>
              </a:path>
              <a:path fill="darkenLess" w="30140" h="21600">
                <a:moveTo>
                  <a:pt x="301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40" y="20200"/>
                </a:lnTo>
                <a:close/>
              </a:path>
              <a:path fill="lighten" w="301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. Adjust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ize &amp; posi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s necessary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3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6-3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. Adjust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ize &amp; posi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s necessary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3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6-3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0" y="304920"/>
            <a:ext cx="9144000" cy="6553080"/>
          </a:xfrm>
          <a:custGeom>
            <a:avLst/>
            <a:gdLst>
              <a:gd name="textAreaLeft" fmla="*/ 424440 w 9144000"/>
              <a:gd name="textAreaRight" fmla="*/ 8719560 w 9144000"/>
              <a:gd name="textAreaTop" fmla="*/ 424440 h 6553080"/>
              <a:gd name="textAreaBottom" fmla="*/ 6128640 h 6553080"/>
            </a:gdLst>
            <a:ahLst/>
            <a:rect l="textAreaLeft" t="textAreaTop" r="textAreaRight" b="textAreaBottom"/>
            <a:pathLst>
              <a:path w="30140" h="21600">
                <a:moveTo>
                  <a:pt x="0" y="0"/>
                </a:moveTo>
                <a:lnTo>
                  <a:pt x="30140" y="0"/>
                </a:lnTo>
                <a:lnTo>
                  <a:pt x="30140" y="21600"/>
                </a:lnTo>
                <a:lnTo>
                  <a:pt x="0" y="21600"/>
                </a:lnTo>
                <a:close/>
              </a:path>
              <a:path fill="lightenLess" w="30140" h="21600">
                <a:moveTo>
                  <a:pt x="0" y="0"/>
                </a:moveTo>
                <a:lnTo>
                  <a:pt x="30140" y="0"/>
                </a:lnTo>
                <a:lnTo>
                  <a:pt x="28740" y="1400"/>
                </a:lnTo>
                <a:lnTo>
                  <a:pt x="1400" y="1400"/>
                </a:lnTo>
                <a:close/>
              </a:path>
              <a:path fill="darken" w="30140" h="21600">
                <a:moveTo>
                  <a:pt x="30140" y="0"/>
                </a:moveTo>
                <a:lnTo>
                  <a:pt x="30140" y="21600"/>
                </a:lnTo>
                <a:lnTo>
                  <a:pt x="28740" y="20200"/>
                </a:lnTo>
                <a:lnTo>
                  <a:pt x="28740" y="1400"/>
                </a:lnTo>
                <a:close/>
              </a:path>
              <a:path fill="darkenLess" w="30140" h="21600">
                <a:moveTo>
                  <a:pt x="301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40" y="20200"/>
                </a:lnTo>
                <a:close/>
              </a:path>
              <a:path fill="lighten" w="301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. Adjust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ize &amp; posi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s necessary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4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6-4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. Adjust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ize &amp; posi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s necessary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4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6-4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0" y="304920"/>
            <a:ext cx="9144000" cy="6553080"/>
          </a:xfrm>
          <a:custGeom>
            <a:avLst/>
            <a:gdLst>
              <a:gd name="textAreaLeft" fmla="*/ 424440 w 9144000"/>
              <a:gd name="textAreaRight" fmla="*/ 8719560 w 9144000"/>
              <a:gd name="textAreaTop" fmla="*/ 424440 h 6553080"/>
              <a:gd name="textAreaBottom" fmla="*/ 6128640 h 6553080"/>
            </a:gdLst>
            <a:ahLst/>
            <a:rect l="textAreaLeft" t="textAreaTop" r="textAreaRight" b="textAreaBottom"/>
            <a:pathLst>
              <a:path w="30140" h="21600">
                <a:moveTo>
                  <a:pt x="0" y="0"/>
                </a:moveTo>
                <a:lnTo>
                  <a:pt x="30140" y="0"/>
                </a:lnTo>
                <a:lnTo>
                  <a:pt x="30140" y="21600"/>
                </a:lnTo>
                <a:lnTo>
                  <a:pt x="0" y="21600"/>
                </a:lnTo>
                <a:close/>
              </a:path>
              <a:path fill="lightenLess" w="30140" h="21600">
                <a:moveTo>
                  <a:pt x="0" y="0"/>
                </a:moveTo>
                <a:lnTo>
                  <a:pt x="30140" y="0"/>
                </a:lnTo>
                <a:lnTo>
                  <a:pt x="28740" y="1400"/>
                </a:lnTo>
                <a:lnTo>
                  <a:pt x="1400" y="1400"/>
                </a:lnTo>
                <a:close/>
              </a:path>
              <a:path fill="darken" w="30140" h="21600">
                <a:moveTo>
                  <a:pt x="30140" y="0"/>
                </a:moveTo>
                <a:lnTo>
                  <a:pt x="30140" y="21600"/>
                </a:lnTo>
                <a:lnTo>
                  <a:pt x="28740" y="20200"/>
                </a:lnTo>
                <a:lnTo>
                  <a:pt x="28740" y="1400"/>
                </a:lnTo>
                <a:close/>
              </a:path>
              <a:path fill="darkenLess" w="30140" h="21600">
                <a:moveTo>
                  <a:pt x="301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40" y="20200"/>
                </a:lnTo>
                <a:close/>
              </a:path>
              <a:path fill="lighten" w="301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. Adjust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ize &amp; posi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s necessary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5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6-5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. Adjust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ize &amp; posi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s necessary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5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6-5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0" y="304920"/>
            <a:ext cx="9144000" cy="6553080"/>
          </a:xfrm>
          <a:custGeom>
            <a:avLst/>
            <a:gdLst>
              <a:gd name="textAreaLeft" fmla="*/ 424440 w 9144000"/>
              <a:gd name="textAreaRight" fmla="*/ 8719560 w 9144000"/>
              <a:gd name="textAreaTop" fmla="*/ 424440 h 6553080"/>
              <a:gd name="textAreaBottom" fmla="*/ 6128640 h 6553080"/>
            </a:gdLst>
            <a:ahLst/>
            <a:rect l="textAreaLeft" t="textAreaTop" r="textAreaRight" b="textAreaBottom"/>
            <a:pathLst>
              <a:path w="30140" h="21600">
                <a:moveTo>
                  <a:pt x="0" y="0"/>
                </a:moveTo>
                <a:lnTo>
                  <a:pt x="30140" y="0"/>
                </a:lnTo>
                <a:lnTo>
                  <a:pt x="30140" y="21600"/>
                </a:lnTo>
                <a:lnTo>
                  <a:pt x="0" y="21600"/>
                </a:lnTo>
                <a:close/>
              </a:path>
              <a:path fill="lightenLess" w="30140" h="21600">
                <a:moveTo>
                  <a:pt x="0" y="0"/>
                </a:moveTo>
                <a:lnTo>
                  <a:pt x="30140" y="0"/>
                </a:lnTo>
                <a:lnTo>
                  <a:pt x="28740" y="1400"/>
                </a:lnTo>
                <a:lnTo>
                  <a:pt x="1400" y="1400"/>
                </a:lnTo>
                <a:close/>
              </a:path>
              <a:path fill="darken" w="30140" h="21600">
                <a:moveTo>
                  <a:pt x="30140" y="0"/>
                </a:moveTo>
                <a:lnTo>
                  <a:pt x="30140" y="21600"/>
                </a:lnTo>
                <a:lnTo>
                  <a:pt x="28740" y="20200"/>
                </a:lnTo>
                <a:lnTo>
                  <a:pt x="28740" y="1400"/>
                </a:lnTo>
                <a:close/>
              </a:path>
              <a:path fill="darkenLess" w="30140" h="21600">
                <a:moveTo>
                  <a:pt x="301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40" y="20200"/>
                </a:lnTo>
                <a:close/>
              </a:path>
              <a:path fill="lighten" w="301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2057400" y="1295280"/>
            <a:ext cx="4724280" cy="227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Final</a:t>
            </a:r>
            <a:endParaRPr b="1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Jeopardy</a:t>
            </a:r>
            <a:endParaRPr b="1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1295280" y="4572000"/>
            <a:ext cx="6477120" cy="15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57500"/>
                    </a:gs>
                    <a:gs pos="50000">
                      <a:srgbClr val="ffff00"/>
                    </a:gs>
                    <a:gs pos="100000">
                      <a:srgbClr val="757500"/>
                    </a:gs>
                  </a:gsLst>
                  <a:lin ang="5400000"/>
                </a:gradFill>
                <a:latin typeface="Comic Sans MS"/>
              </a:rPr>
              <a:t>Category</a:t>
            </a: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57500"/>
                  </a:gs>
                  <a:gs pos="50000">
                    <a:srgbClr val="ffff00"/>
                  </a:gs>
                  <a:gs pos="100000">
                    <a:srgbClr val="757500"/>
                  </a:gs>
                </a:gsLst>
                <a:lin ang="5400000"/>
              </a:gradFill>
              <a:latin typeface="Comic Sans MS"/>
              <a:ea typeface="Comic Sans MS"/>
            </a:endParaRPr>
          </a:p>
        </p:txBody>
      </p:sp>
      <p:sp>
        <p:nvSpPr>
          <p:cNvPr id="345" name=""/>
          <p:cNvSpPr/>
          <p:nvPr/>
        </p:nvSpPr>
        <p:spPr>
          <a:xfrm>
            <a:off x="1143000" y="1752480"/>
            <a:ext cx="762120" cy="685800"/>
          </a:xfrm>
          <a:prstGeom prst="star5">
            <a:avLst/>
          </a:pr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7620120" y="1981080"/>
            <a:ext cx="761760" cy="685800"/>
          </a:xfrm>
          <a:prstGeom prst="star5">
            <a:avLst/>
          </a:prstGeom>
          <a:gradFill rotWithShape="0">
            <a:gsLst>
              <a:gs pos="0">
                <a:srgbClr val="752f00"/>
              </a:gs>
              <a:gs pos="50000">
                <a:srgbClr val="ff6600"/>
              </a:gs>
              <a:gs pos="100000">
                <a:srgbClr val="752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6934320" y="3581280"/>
            <a:ext cx="761760" cy="685800"/>
          </a:xfrm>
          <a:prstGeom prst="star5">
            <a:avLst/>
          </a:prstGeom>
          <a:gradFill rotWithShape="0">
            <a:gsLst>
              <a:gs pos="0">
                <a:srgbClr val="5e4675"/>
              </a:gs>
              <a:gs pos="50000">
                <a:srgbClr val="cc99ff"/>
              </a:gs>
              <a:gs pos="100000">
                <a:srgbClr val="5e46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981080" y="1219320"/>
            <a:ext cx="762120" cy="685800"/>
          </a:xfrm>
          <a:prstGeom prst="star5">
            <a:avLst/>
          </a:prstGeom>
          <a:gradFill rotWithShape="0">
            <a:gsLst>
              <a:gs pos="0">
                <a:srgbClr val="007500"/>
              </a:gs>
              <a:gs pos="50000">
                <a:srgbClr val="00ff00"/>
              </a:gs>
              <a:gs pos="100000">
                <a:srgbClr val="0075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019920" y="1676520"/>
            <a:ext cx="761760" cy="685800"/>
          </a:xfrm>
          <a:prstGeom prst="star5">
            <a:avLst/>
          </a:pr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1447920" y="2590920"/>
            <a:ext cx="61722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ategory 6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" descr=""/>
          <p:cNvPicPr/>
          <p:nvPr/>
        </p:nvPicPr>
        <p:blipFill>
          <a:blip r:embed="rId2"/>
          <a:stretch/>
        </p:blipFill>
        <p:spPr>
          <a:xfrm>
            <a:off x="380880" y="6248520"/>
            <a:ext cx="228600" cy="228600"/>
          </a:xfrm>
          <a:prstGeom prst="rect">
            <a:avLst/>
          </a:prstGeom>
          <a:ln w="0">
            <a:noFill/>
          </a:ln>
        </p:spPr>
      </p:pic>
      <p:sp>
        <p:nvSpPr>
          <p:cNvPr id="351" name=""/>
          <p:cNvSpPr txBox="1"/>
          <p:nvPr/>
        </p:nvSpPr>
        <p:spPr>
          <a:xfrm>
            <a:off x="990720" y="914400"/>
            <a:ext cx="7315200" cy="525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th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"Final Jeopary"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question here.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djust siz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nd posi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s necessary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 txBox="1"/>
          <p:nvPr/>
        </p:nvSpPr>
        <p:spPr>
          <a:xfrm>
            <a:off x="990720" y="914400"/>
            <a:ext cx="7315200" cy="525780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ontestants: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lease put down you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riting tools and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ait for furth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nstructions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353" name="hh01633_" descr=""/>
          <p:cNvPicPr/>
          <p:nvPr/>
        </p:nvPicPr>
        <p:blipFill>
          <a:blip r:embed="rId2"/>
          <a:stretch/>
        </p:blipFill>
        <p:spPr>
          <a:xfrm>
            <a:off x="6705720" y="4572000"/>
            <a:ext cx="1846080" cy="16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 txBox="1"/>
          <p:nvPr/>
        </p:nvSpPr>
        <p:spPr>
          <a:xfrm>
            <a:off x="990720" y="914400"/>
            <a:ext cx="7315200" cy="525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th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"Final Jeopary"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nswer here.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djust siz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nd posi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s necessary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80880" y="533520"/>
            <a:ext cx="8305920" cy="5943600"/>
          </a:xfrm>
          <a:custGeom>
            <a:avLst/>
            <a:gdLst>
              <a:gd name="textAreaLeft" fmla="*/ 385200 w 8305920"/>
              <a:gd name="textAreaRight" fmla="*/ 7920720 w 8305920"/>
              <a:gd name="textAreaTop" fmla="*/ 385200 h 5943600"/>
              <a:gd name="textAreaBottom" fmla="*/ 5558400 h 5943600"/>
            </a:gdLst>
            <a:ahLst/>
            <a:rect l="textAreaLeft" t="textAreaTop" r="textAreaRight" b="textAreaBottom"/>
            <a:pathLst>
              <a:path w="30185" h="21600">
                <a:moveTo>
                  <a:pt x="0" y="0"/>
                </a:moveTo>
                <a:lnTo>
                  <a:pt x="30185" y="0"/>
                </a:lnTo>
                <a:lnTo>
                  <a:pt x="30185" y="21600"/>
                </a:lnTo>
                <a:lnTo>
                  <a:pt x="0" y="21600"/>
                </a:lnTo>
                <a:close/>
              </a:path>
              <a:path fill="lightenLess" w="30185" h="21600">
                <a:moveTo>
                  <a:pt x="0" y="0"/>
                </a:moveTo>
                <a:lnTo>
                  <a:pt x="30185" y="0"/>
                </a:lnTo>
                <a:lnTo>
                  <a:pt x="28785" y="1400"/>
                </a:lnTo>
                <a:lnTo>
                  <a:pt x="1400" y="1400"/>
                </a:lnTo>
                <a:close/>
              </a:path>
              <a:path fill="darken" w="30185" h="21600">
                <a:moveTo>
                  <a:pt x="30185" y="0"/>
                </a:moveTo>
                <a:lnTo>
                  <a:pt x="30185" y="21600"/>
                </a:lnTo>
                <a:lnTo>
                  <a:pt x="28785" y="20200"/>
                </a:lnTo>
                <a:lnTo>
                  <a:pt x="28785" y="1400"/>
                </a:lnTo>
                <a:close/>
              </a:path>
              <a:path fill="darkenLess" w="30185" h="21600">
                <a:moveTo>
                  <a:pt x="301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85" y="20200"/>
                </a:lnTo>
                <a:close/>
              </a:path>
              <a:path fill="lighten" w="301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 txBox="1"/>
          <p:nvPr/>
        </p:nvSpPr>
        <p:spPr>
          <a:xfrm>
            <a:off x="1295280" y="1295280"/>
            <a:ext cx="6172200" cy="403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That's all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for today.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Good luck on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your test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5257800" y="3276720"/>
            <a:ext cx="914400" cy="91440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200400" y="1676520"/>
            <a:ext cx="380880" cy="38088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2057400" y="1905120"/>
            <a:ext cx="525780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850000"/>
                    </a:gs>
                    <a:gs pos="100000">
                      <a:srgbClr val="ff00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Daily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850000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850000"/>
                    </a:gs>
                    <a:gs pos="100000">
                      <a:srgbClr val="ff00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Double!!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850000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2"/>
          <a:stretch/>
        </p:blipFill>
        <p:spPr>
          <a:xfrm>
            <a:off x="380880" y="6324480"/>
            <a:ext cx="76320" cy="76320"/>
          </a:xfrm>
          <a:prstGeom prst="rect">
            <a:avLst/>
          </a:prstGeom>
          <a:ln w="0">
            <a:noFill/>
          </a:ln>
        </p:spPr>
      </p:pic>
      <p:sp>
        <p:nvSpPr>
          <p:cNvPr id="361" name=""/>
          <p:cNvSpPr/>
          <p:nvPr/>
        </p:nvSpPr>
        <p:spPr>
          <a:xfrm>
            <a:off x="1371600" y="914400"/>
            <a:ext cx="685800" cy="68580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990720" y="1523880"/>
            <a:ext cx="533160" cy="53352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7086600" y="1523880"/>
            <a:ext cx="457200" cy="45720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7620120" y="1905120"/>
            <a:ext cx="380880" cy="38088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914400" y="990720"/>
            <a:ext cx="380880" cy="38088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819520" y="2209680"/>
            <a:ext cx="533160" cy="53352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7162920" y="2209680"/>
            <a:ext cx="533160" cy="53352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733920" y="5410080"/>
            <a:ext cx="457200" cy="45720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191120" y="5029200"/>
            <a:ext cx="457200" cy="45720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429000" y="4876920"/>
            <a:ext cx="380880" cy="38088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Daily Double Round 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228600" y="4572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ategory 1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62720" y="1295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" action="ppaction://hlinksldjump"/>
              </a:rPr>
              <a:t>$</a:t>
            </a: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" action="ppaction://hlinksldjump"/>
              </a:rPr>
              <a:t>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62720" y="2438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4" action="ppaction://hlinksldjump"/>
              </a:rPr>
              <a:t>$</a:t>
            </a: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5" action="ppaction://hlinksldjump"/>
              </a:rPr>
              <a:t>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62720" y="3581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6" action="ppaction://hlinksldjump"/>
              </a:rPr>
              <a:t>$</a:t>
            </a: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7" action="ppaction://hlinksldjump"/>
              </a:rPr>
              <a:t>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62720" y="4724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8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2720" y="5867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9" action="ppaction://hlinksldjump"/>
              </a:rPr>
              <a:t>$</a:t>
            </a: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0" action="ppaction://hlinksldjump"/>
              </a:rPr>
              <a:t>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6866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1" action="ppaction://hlinksldjump"/>
              </a:rPr>
              <a:t>$</a:t>
            </a: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2" action="ppaction://hlinksldjump"/>
              </a:rPr>
              <a:t>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9596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3" action="ppaction://hlinksldjump"/>
              </a:rPr>
              <a:t>$</a:t>
            </a: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4" action="ppaction://hlinksldjump"/>
              </a:rPr>
              <a:t>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68660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5" action="ppaction://hlinksldjump"/>
              </a:rPr>
              <a:t>$</a:t>
            </a: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6" action="ppaction://hlinksldjump"/>
              </a:rPr>
              <a:t>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8660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7" action="ppaction://hlinksldjump"/>
              </a:rPr>
              <a:t>$</a:t>
            </a: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8" action="ppaction://hlinksldjump"/>
              </a:rPr>
              <a:t>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68660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9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210480" y="127944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0" action="ppaction://hlinksldjump"/>
              </a:rPr>
              <a:t>$</a:t>
            </a: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1" action="ppaction://hlinksldjump"/>
              </a:rPr>
              <a:t>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210480" y="2438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2" action="ppaction://hlinksldjump"/>
              </a:rPr>
              <a:t>$</a:t>
            </a: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3" action="ppaction://hlinksldjump"/>
              </a:rPr>
              <a:t>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201120" y="356544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4" action="ppaction://hlinksldjump"/>
              </a:rPr>
              <a:t>$</a:t>
            </a: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5" action="ppaction://hlinksldjump"/>
              </a:rPr>
              <a:t>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1048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6" action="ppaction://hlinksldjump"/>
              </a:rPr>
              <a:t>$</a:t>
            </a: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7" action="ppaction://hlinksldjump"/>
              </a:rPr>
              <a:t>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21048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8" action="ppaction://hlinksldjump"/>
              </a:rPr>
              <a:t>$</a:t>
            </a: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9" action="ppaction://hlinksldjump"/>
              </a:rPr>
              <a:t>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7250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0" action="ppaction://hlinksldjump"/>
              </a:rPr>
              <a:t>$</a:t>
            </a: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1" action="ppaction://hlinksldjump"/>
              </a:rPr>
              <a:t>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7250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2" action="ppaction://hlinksldjump"/>
              </a:rPr>
              <a:t>$</a:t>
            </a: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3" action="ppaction://hlinksldjump"/>
              </a:rPr>
              <a:t>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73472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4" action="ppaction://hlinksldjump"/>
              </a:rPr>
              <a:t>$</a:t>
            </a: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5" action="ppaction://hlinksldjump"/>
              </a:rPr>
              <a:t>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73472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6" action="ppaction://hlinksldjump"/>
              </a:rPr>
              <a:t>$</a:t>
            </a: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7" action="ppaction://hlinksldjump"/>
              </a:rPr>
              <a:t>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73472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8" action="ppaction://hlinksldjump"/>
              </a:rPr>
              <a:t>$</a:t>
            </a: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9" action="ppaction://hlinksldjump"/>
              </a:rPr>
              <a:t>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26796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40" action="ppaction://hlinksldjump"/>
              </a:rPr>
              <a:t>$</a:t>
            </a: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41" action="ppaction://hlinksldjump"/>
              </a:rPr>
              <a:t>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2586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42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26796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43" action="ppaction://hlinksldjump"/>
              </a:rPr>
              <a:t>$</a:t>
            </a: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44" action="ppaction://hlinksldjump"/>
              </a:rPr>
              <a:t>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26796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26796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45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7922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46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7922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47" action="ppaction://hlinksldjump"/>
              </a:rPr>
              <a:t>$</a:t>
            </a: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48" action="ppaction://hlinksldjump"/>
              </a:rPr>
              <a:t>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78248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49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79220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50" action="ppaction://hlinksldjump"/>
              </a:rPr>
              <a:t>$</a:t>
            </a: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51" action="ppaction://hlinksldjump"/>
              </a:rPr>
              <a:t>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79220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52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8839080" y="6553080"/>
            <a:ext cx="228600" cy="15264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1752480" y="4572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ategory 2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3276720" y="4572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ategory 3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7848720" y="4572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ategory 6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6324480" y="4572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ategory 5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800600" y="4572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ategory 4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. Adjust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ize &amp; posi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s necessary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1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-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7T17:16:48Z</dcterms:created>
  <dc:creator>Matt Hamlyn</dc:creator>
  <dc:description>email mhamlyn@jessamine.k12.ky.us</dc:description>
  <dc:language>en-US</dc:language>
  <cp:lastModifiedBy>Kathy Ferrel</cp:lastModifiedBy>
  <dcterms:modified xsi:type="dcterms:W3CDTF">2002-02-01T20:42:30Z</dcterms:modified>
  <cp:revision>89</cp:revision>
  <dc:subject/>
  <dc:title>No Slide Title</dc:title>
</cp:coreProperties>
</file>