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CFC-738D-4BCC-9C74-18241D11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F10-4241-4025-A510-BB4CB8A4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56F-2F97-4F3E-BEDD-47BF4024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40F-5CB2-447C-B68B-A3BB810D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1D1-CFFF-402A-8C19-5B80F3BD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7BD3-289E-46B8-AE26-4E89C3E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E345-1EA2-4FB4-955F-8D398013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5FBC-8EF8-40EA-BBCC-6D398CC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F92-1746-49A8-878B-DC0A5ACB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2ED6-EE63-4B88-BC39-A6D88C3E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39DA-DF0B-4ECC-A19B-C3F6DCC8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AA2-DC24-407F-96D2-3EA035B2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D40-5F25-46C3-9580-03951199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884C-3042-4AFF-802C-8FCE800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9F6B-9E5E-4074-B82F-0EAB1F7F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75AEA-38E1-4936-9D75-0CF1AB5F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3BAD-8E72-488C-9727-3DF9B355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A4E-2828-462A-99A6-0296BB49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53C-1F3A-4906-A2DC-90E3D1C1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1A6-B621-4F4D-827F-34FEA452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906-09F9-41BE-BB66-DA01AB6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926-F7D9-4832-896D-5C8DE669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293-250F-46BA-B760-66C92709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366-0121-4E06-A8C1-B5A9B60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B86C-9D76-45A6-AC59-50E5FC0C7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9FF-14D8-4587-A87D-FE7F1828C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m_button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fms</cp:lastModifiedBy>
  <dcterms:modified xsi:type="dcterms:W3CDTF">1999-10-12T23:28:56Z</dcterms:modified>
  <cp:revision>14</cp:revision>
  <dc:subject/>
  <dc:title>Jeopardy</dc:title>
</cp:coreProperties>
</file>