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cashreg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  <p:custShowLst>
    <p:custShow name="Custom Show 1" id="0">
      <p:sldLst>
        <p:sld r:id="rId3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D731-0E65-4938-A659-591D463A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FED-B723-4023-9B82-452EBA3B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315-E96D-47EE-90A8-9AEF9807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AF3-05C8-49CD-8BEF-40890440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B26-F6C0-40AE-AD38-39D2F6AC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854-E6DA-4AE7-96DA-309D6978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AF4-0116-404E-8F92-1CBE4FF3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7A36-550A-4974-9426-EC23AF06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B0A6-07C0-4861-A756-12AD8E80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9C1-AD37-439B-94EA-684E6115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1036-603D-4948-B86E-46F6FC3A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5026-E366-460A-92C3-11DAA87B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D2C9-E057-45FD-B381-1929B340B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millionaire%20money%20list" descr=""/>
          <p:cNvPicPr/>
          <p:nvPr/>
        </p:nvPicPr>
        <p:blipFill>
          <a:blip r:embed="rId2"/>
          <a:stretch/>
        </p:blipFill>
        <p:spPr>
          <a:xfrm>
            <a:off x="4821120" y="304920"/>
            <a:ext cx="4056120" cy="6172200"/>
          </a:xfrm>
          <a:prstGeom prst="rect">
            <a:avLst/>
          </a:prstGeom>
          <a:ln w="0">
            <a:noFill/>
          </a:ln>
        </p:spPr>
      </p:pic>
      <p:pic>
        <p:nvPicPr>
          <p:cNvPr id="43" name="millionaire%20logo%20small" descr=""/>
          <p:cNvPicPr/>
          <p:nvPr/>
        </p:nvPicPr>
        <p:blipFill>
          <a:blip r:embed="rId3"/>
          <a:stretch/>
        </p:blipFill>
        <p:spPr>
          <a:xfrm>
            <a:off x="609480" y="1981080"/>
            <a:ext cx="3429000" cy="2898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00600" y="2133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2514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3733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3276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295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914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5257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5638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4876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6095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38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40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54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58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60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63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275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82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84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87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98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02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04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07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319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26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28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31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342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46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48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51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3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363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70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72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75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386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90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92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95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7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407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14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16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1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430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34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36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39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1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451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2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4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7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78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82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84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87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58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60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463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5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474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78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80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83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5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495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02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04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07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9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518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22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24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27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9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539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46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48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51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3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562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66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68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71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3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583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90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92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95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7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06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10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12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615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7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627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34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36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39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1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50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54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56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659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1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671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99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78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80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83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5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94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98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700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703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shreg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715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millionaire%20logo%20small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531880" cy="213984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2920320" y="557280"/>
            <a:ext cx="3333960" cy="764280"/>
          </a:xfrm>
          <a:prstGeom prst="rect">
            <a:avLst/>
          </a:prstGeom>
          <a:noFill/>
          <a:ln w="0">
            <a:noFill/>
          </a:ln>
          <a:effectLst>
            <a:outerShdw dist="11448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eat Job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712160" y="5129280"/>
            <a:ext cx="5734080" cy="76428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06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08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11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122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26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28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31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143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50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52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55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166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70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72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75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187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94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96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99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10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14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16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19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231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23:42:16Z</dcterms:created>
  <dc:creator>STANLEY</dc:creator>
  <dc:description/>
  <dc:language>en-US</dc:language>
  <cp:lastModifiedBy>srubin</cp:lastModifiedBy>
  <cp:lastPrinted>2000-05-03T23:45:17Z</cp:lastPrinted>
  <dcterms:modified xsi:type="dcterms:W3CDTF">2001-10-05T14:10:23Z</dcterms:modified>
  <cp:revision>30</cp:revision>
  <dc:subject/>
  <dc:title>No Slide Title</dc:title>
</cp:coreProperties>
</file>