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password.wav" ContentType="audio/x-wav"/>
  <Override PartName="/ppt/media/image10.png" ContentType="image/png"/>
  <Override PartName="/ppt/media/image2.jpeg" ContentType="image/jpeg"/>
  <Override PartName="/ppt/media/image9.png" ContentType="image/png"/>
  <Override PartName="/ppt/media/buzzer.wav" ContentType="audio/x-wav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090-9811-4DBB-A1CF-A4EA8467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E57-F07F-418F-9BCE-348FE885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BB16-379E-46BF-B571-BDC0FC92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222E-4BF1-4B47-AC74-02E74458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7238880" cy="66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263-02A3-4C38-AD11-AD790C2C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3A2-3CB1-46EB-8774-9631EBE2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DA46-AA8F-4C72-BA49-23C6F758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8F1-7A33-4686-89CB-E8B36EE0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7238880" cy="66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9F2E-A67E-4FE4-A3D9-125298D8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996-376C-44EB-AABA-94863E66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1F9-49A8-4AF6-823E-53EFE33D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6254-4CDB-4E16-BD12-B0BED531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8080-FB04-430F-8D4E-510348DE00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2514600" y="137160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2083" y="-29631"/>
                </a:moveTo>
                <a:arcTo wR="32000" hR="32000" stAng="-4068917" swAng="8137834"/>
                <a:moveTo>
                  <a:pt x="12083" y="29631"/>
                </a:moveTo>
                <a:arcTo wR="32000" hR="32000" stAng="4068917" swAng="41"/>
                <a:lnTo>
                  <a:pt x="12083" y="29632"/>
                </a:lnTo>
                <a:lnTo>
                  <a:pt x="12083" y="-29632"/>
                </a:lnTo>
                <a:lnTo>
                  <a:pt x="12083" y="-29631"/>
                </a:lnTo>
                <a:arcTo wR="32000" hR="32000" stAng="-4068958" swAng="41"/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3222720" y="304920"/>
            <a:ext cx="403884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994" y="-25753"/>
                </a:moveTo>
                <a:arcTo wR="32000" hR="32000" stAng="-3215387" swAng="6430773"/>
                <a:moveTo>
                  <a:pt x="18994" y="25753"/>
                </a:moveTo>
                <a:arcTo wR="32000" hR="32000" stAng="3215387" swAng="64"/>
                <a:lnTo>
                  <a:pt x="18994" y="25754"/>
                </a:lnTo>
                <a:lnTo>
                  <a:pt x="18994" y="-25754"/>
                </a:lnTo>
                <a:lnTo>
                  <a:pt x="18994" y="-25754"/>
                </a:lnTo>
                <a:arcTo wR="32000" hR="32000" stAng="-3215450" swAng="64"/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assword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Vocabulary Review 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657600" y="45720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5981760" cy="1562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passwor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22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41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60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79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98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 Directions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31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 a vocabulary word on each of the following 10 slides in the subtitle textbox.  When complete, run the show by pressing F5 on the keyboar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student stands with back to this present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lass gives the student clues to the vocabulary word onscreen as a clock keeps ti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tudent tries to guess the word before the buzz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99"/>
                </a:solidFill>
                <a:latin typeface="Arial"/>
              </a:rPr>
              <a:t>Ready to play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410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08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27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46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65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84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03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0:20:42Z</dcterms:created>
  <dc:creator>Connie Campbell</dc:creator>
  <dc:description/>
  <dc:language>en-US</dc:language>
  <cp:lastModifiedBy>Connie Campbell</cp:lastModifiedBy>
  <dcterms:modified xsi:type="dcterms:W3CDTF">2006-07-24T02:17:32Z</dcterms:modified>
  <cp:revision>8</cp:revision>
  <dc:subject/>
  <dc:title>Password</dc:title>
</cp:coreProperties>
</file>